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AE31F-32A7-4ED7-821F-B9106F86CE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3D8F8-AA78-4BEA-AB76-DB4D7012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106A4F-D144-4B74-8243-1637E6EA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7D1E86-2629-4AD9-8B17-5F1EF4E96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257F61-35B3-4BFC-81F2-434749EE1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5832CB-7023-4FB0-8C5A-85D882A0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342D87-3BD4-4811-A52E-3A24B211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CB9229-C3B6-456B-9224-978334D3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E7BD45-7077-4EF7-8AF4-350202D4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686797-8AF9-4D7C-8E63-4E461710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24729C-5411-447C-A884-70A731B48B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BB6D7-63B0-4F78-B7FE-35BD9EDBB5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DE9A5-1A96-4AFC-BC72-73AA79BB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58C3D-1546-4AB3-85D7-2AA873DB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F58BF-20CD-47F0-A54B-70708CB9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F5B11-D447-46D7-865B-375F179F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B66BD-FBB8-4286-89D7-9386B9F12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BBBC5-2F0A-40E4-9320-E15A3BECC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F1865-A5FB-4C52-A825-E576D77B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0F602-04EA-466D-BA0A-F5DDC2CC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20802-33D4-4A69-BC3B-1992E38A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8C5CE-B3C0-4F90-900D-AF247CE9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A89E1-684A-4094-929B-737AC5FD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2B3C0-FD91-47C6-AE9F-F5AB41BBF6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3DF4F-E11A-40A9-8750-81FC92E3B0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14EA11-4559-428B-9207-FF0E0DBEC2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F03FA1-18F7-4740-82E6-93F590DD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9F7F14-5A81-45CA-8BA6-3133A187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5AF818-18BC-4189-9550-02AE501D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8FA1DB-677B-4D58-8B5D-3C6098098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085C4B-5478-4AF6-99B1-E32E9E8EA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DE8673-82F1-486F-A713-70AB9233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F19A95-032E-4AE4-BDE3-CDD5576F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0D56D7-DAEA-4665-BBE0-FEB4821E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2C1AF-9924-4477-A9CC-E03BE99E0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FDBBFF-AA24-4417-8361-6DB9EE85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B0F32F-75A9-4B93-B656-CB4F4C45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9CF414-92F3-41F7-B585-D0A9A09303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C41196-B58C-4E54-AA52-5F4D618992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B172A7-DCCD-4F6A-A025-5487D68B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90232C-1E9A-4178-9346-2B129550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588420-85A2-4C82-A159-7AB90592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5C537B-6883-4B73-A5BC-C2CBCBE03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15C121-0CC7-43F1-9BC8-9C40B89F6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725A6E-63C6-41EA-A157-60F31036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8F090-5D8F-4557-A025-1E5F8528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118895-746B-45C1-85FE-ADF5DF7A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6958A6-516C-45E8-832F-DDC616E1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AFE81F-39B5-4876-BF99-CAA81F39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DB634D-57F7-4587-9794-D9E19C0A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860637-3278-454C-BCEA-14294B8F67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64DE9-E351-42B6-BCDF-FEDEB704FD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67DA77-1C3D-4126-995C-5BD8A84A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EED24D-FCE9-448B-8CE9-D6E7D759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0DC93-94EE-4F03-9A0C-B5F414E6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3B0EB-6AD6-4F7B-BB15-81583FC36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67CBB-2E8E-43B1-A835-CE935D96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785FEA-BD1A-42FC-8D48-33D82EC76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F9412-2014-409B-8796-D54BF774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C35DB-8C1E-4547-9C2B-F49EBE3A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76567-5EAB-4830-ABF2-23FC3451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0BB18-6819-4FB2-A42F-CC0CCFC7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7C4AA5-9BED-43B1-93CC-5D9C1E54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A2426-B61C-4BC4-B861-D946C4E5BC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E8812-0C4E-4421-9955-E41BD81DB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CFEA58-CF62-4604-A593-A454B0C2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FED29-6F1A-49AD-8366-1677BD03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73EC4-1526-48AF-AC8A-967B0829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E95CE-524F-4D70-B1A1-ADBC5658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49146D-9D14-4BCA-A6E1-8D867842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10BA59-F22B-486E-86E9-65E66E22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9D1CD-1824-4DCC-A5D4-3CCAB4A2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D9605-6B10-45DD-BE2F-2696C141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C60E42-69C0-42B8-AB0E-2F92C6B5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DC91D-BBA1-49B6-B158-9130FD26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AAC14-6614-4210-BDFA-D6CB94FA3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BA88CD-EE84-4A40-93BD-473A8CA55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40038-DC70-4318-8B78-F67874166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1450B-3C1E-43DA-A5FF-570ED87C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7A535-AC28-47CD-BE42-49B2D92C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44EF6-9B2E-40CE-8E51-24C80735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C2584-6100-4257-A5DD-2A098FAC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043A6-9F5C-4A4F-A23A-DD010AB9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B3409-B15E-475B-ADA3-4E7C8945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D25A5-5F8C-41F9-BA07-2FF75A25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E3CB0-3C59-4B63-BF13-DB5F9740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3F36D-4EEA-4A7A-85B4-454A65A2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C90BB-10B8-4E3A-8E27-F6E9DF85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FC754-BD65-4CB6-BB90-D50129F55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9D21D-1A77-4D7E-9715-2C780EF6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E43DF-87D8-4887-A89E-B709F3AA5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E3DE0F-504D-4F9C-B4C4-AB5858377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82EBD9-BAE3-4B0E-A4E9-916393C3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3BD436-C1E1-4609-952A-4349E395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DD9474-C691-429E-90FB-31F46458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964DB5-A402-488C-ABC3-3112A912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F43B16-21B6-416C-89D8-8A06F7A4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31903-2E31-4E09-8CC6-FB1C3459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88127A-A32B-4457-9BE7-60D0FE78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3FC126-78C5-4963-AE64-16C43F20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06271-C923-4F9B-A93E-FCB50BC8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F8D183-DB63-4DA7-8992-824AFAEA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9D9BF-32F6-4827-B7C3-0C320073F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EDBB07-7E53-4F50-8121-478270A48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5A8C99-7868-4E82-B3A0-3FAC28B71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8F128D-0C19-4350-A479-A0B2A8EE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DD9BE5-2930-4742-81D0-43C94375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24D981-1DD2-40C3-BE78-BF662288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B11F3B-8E38-4D53-AFA9-A6EE38AD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84BFE6-766C-4438-B8BA-763A91CC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B99A48-FEDA-4020-80A6-34680476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5D122-1518-4E44-946B-83C1EEA5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89536-CB27-44A0-A025-CB4CE36C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3CDD3F-AE9C-435D-8D2D-F36668DB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01E3DC-AE30-45A6-85AE-BF5AB680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93F6C2-CFB0-40CD-934E-BDA49B48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B4DFB6-7ED0-4C53-82C8-A801C16F5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889FDD-C721-4D97-9388-8F65D85B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E9EB06-884E-444D-88EE-BC30376BB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A3FC8D-A1C2-4B57-A272-46D8612A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7060C2-2193-4303-82BE-E7547D3F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3BB2D1-E098-4FA1-910B-5CE86CD3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57821A-332A-459E-B0FC-0175B8E1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5BDE4-2B8C-4A2B-8498-8263EEC0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E2CE40-2B73-4A05-BA55-18023B5F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26F1AC-D3E4-4422-B74F-C8721EE1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2E9E1F-224F-4214-9588-55AF8DC5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8FE896-ED67-41E8-9B58-959FC263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C34563-8E77-4C0E-A26C-92E3CFDC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839F80-31A7-417E-9FDE-0CA976AB8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D0FB22-D063-485B-AC92-642EE4C5E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4590C4-C2EE-4995-9582-E49FE20B4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2F98E5-3C2C-4B84-A1DD-3748EA10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0C30B3-749F-4A26-93A6-3821D1A8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F3E36-B97A-477A-8B95-FE90E71E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B6A159-744C-4C9B-B4C0-061B83F0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B652B9-CD64-4463-9008-0BF43192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E50B3F-6D20-43D4-928C-9C9B404F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27AF84-43CB-4DEA-BEA6-007CA779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1C3C9F-81A9-4A64-B6B4-600CE204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DD931A-F5E0-4672-A32A-EDF55173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878BDE-0ACF-4614-89ED-E51131D4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338141-F0B5-447F-81A2-72D184136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048B9D-3D68-4C55-9FA4-661EDBBBC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BB7353-4E5F-42E0-AFA9-42A1780D6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5B43A-C21F-46B0-A920-956937E64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B33D0C-8A2B-4EA4-BCA7-9CF3C92F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2296AB-58FC-4B80-BC0C-082E5525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F7765A-D1F9-49A8-9070-C4D4FA1E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8372A3-C8F3-4C5D-B130-7655D6F5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09202C-F253-4E51-A12A-60532875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B77FCD-7B64-440F-B252-B1557F6E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11D0C7-BAC7-46B0-993B-D5ED32FC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FB4C2E-2068-4899-81E2-680BC2E7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830047-05D4-40DC-AD07-43D99D07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5150D7-B9C7-48E1-8CFC-63E283500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2D1B0-E5A4-44EF-A009-84C2420A0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6F99CF-4E61-4229-9292-439B5803C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ED28E2-9FFF-4340-B960-F2F824D8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65464A-0821-4F34-B662-922B9BA3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FC356C-051F-4910-B333-1351E492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CB4CD3-19FC-40F4-A224-EB015494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A65805-D75D-4BE2-BD45-62850409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24E47F-9885-43C0-B621-91B883A0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E7FF6B-D630-4A93-BCCA-348CBF17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E80A51-B725-44CB-B24F-A3481916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0E412A-F535-40B0-8C1E-0EB01EDD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48B840-F4C3-475C-8008-1C4BF96910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A9BAC0-08CE-456D-9B91-B560A053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E3665E-99B2-4B6D-83C5-7DF9B22F3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B4ABB8-D1D2-47C1-9BF4-E03D02B33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D2E85D-F9E3-4537-A4F3-796973B0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9D3E76-FF11-4A04-BA44-7E29CCB1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665A94-D059-45F7-86CC-A21B8367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F2BC43-73D4-43FF-88E1-7320DFD3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C68535-0251-428C-A06C-731312D1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828576-3CF6-42C5-8561-2440603C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329DA4-D176-4422-9A13-1E6C9D56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7368D2-79BE-468B-B3FF-7690D561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9AD48F-EA26-480D-AEA4-BB5CC1E0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E424ED-4B8F-4BFC-82A6-D209774D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005847-1C89-4487-AE23-377917C4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E95C73-6C89-4103-8367-DCCC92E8C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62A4B7-6062-4E7C-B0A3-5074EAB29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BD272C-92B8-4AD7-9039-5560D97EC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4BA790-BCC7-426D-83E3-22080846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956708-5AA6-476F-B598-4DFDEEE8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7EC8EA-ED4C-4481-9A8B-4008C83C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3E1229-1F93-420D-A9B0-DAFA5731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21EAD4-BB51-47F8-8A36-83122F54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D0778A-A9CF-4598-864F-DB03D7C2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C8B082-8258-459B-8F89-C12476A2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D86113-70D4-46DA-81AA-351CE123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FF2F42-783E-4CEF-9989-1BA273B9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C5D663-CA8A-4D40-A59E-A4E2FF30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EA10AC-C48A-4792-9AE6-ABFC633DF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90444E-1FB8-45B7-9525-AE5493AEF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D3522E-162A-41D7-BBF2-FAB5D0051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D5419A-6878-4678-B4BD-19C906F8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207F29-E6CC-4509-8787-15D7BB3B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FF9669-1EF3-4DB1-AA1B-EB207032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C18B9C-2F05-4E12-949F-F439FCEF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052DA4-88EF-4231-895C-778749FF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063203-5092-46CC-9888-B5B03ED1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4825FB-9708-4E15-90B9-23153B95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89ABE7-F272-4FFB-8025-E5341A0B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DEC8DC-9280-495C-9791-72D0B546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EDB740-2C10-46F3-B206-B7369577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1F0152-5CDE-414C-9F1E-351F7A977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038C7E-5524-43BE-AD1D-B435CF365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59C5C3-CD57-4C45-9E65-487414DBD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AEC1A-16C1-4620-8EB2-7E74845F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5A8F7B-D878-4F0F-B360-0ED351ECC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13932F-F825-4A5E-9585-00D10107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94334B-E30D-4702-991C-64115688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98EA38-E393-44F0-8320-CC7719AB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267DA7-E34B-4258-8EC8-5785CE4C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AB1D53-A18C-4419-A99E-38C6DB2E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06BF55-B0A8-4452-8EEE-F09B5A120A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67B94-A7DA-4047-8BD9-565F112E32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3FB1B-D263-4963-8B12-0B97D3D3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F9927-8BC6-498C-840A-14D2A469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F8467-7ED0-4CF1-AAA0-5F7C2C50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FEFA3-E451-484E-82A7-6042DAA8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79F3B-FC05-4B07-B008-C6027D9C7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8188D-1DDF-4707-A3B7-4CADD47FC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88D1E-3534-4876-BFD8-184378A2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B7251-0C4C-4AFE-B820-6EF60F44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0F692-4F66-4361-9F02-D23522F1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8F6E3-B03C-4078-806F-84FBFA7D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11948-EC3F-4F61-B298-BF064168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4D9A6-38ED-4B10-B7FB-427F7F6B6A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7EFF9C-A153-4535-ADEE-B596F4F3AC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0A89F-07DB-4C39-94DA-857A70C36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9AE65D-99CC-4614-8A60-F860E524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31BB33-F38D-46B6-8251-0AA0A88C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B59609-F6F6-4625-BEE6-09D6F87D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775968-A8D5-4899-B537-5ECA129C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2B061E-05BD-4907-A0E9-7CCF95D08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4A80F4-8BEE-4E3C-BE12-81345131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DDC584-4FC0-40AF-8F5E-F62CD10D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E992A0-7458-47F8-B057-8D07C4BE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14E3E5-7BC2-4E40-8EAC-1FDB97F5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DA3D47-3722-4C02-8874-0E06909F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3C494-551A-427D-81AD-2720803AB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BF13A7-9E76-4AB6-BAC9-D766C88D83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043096-22F2-4E66-B555-0807E3ABF4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2047BB-C9B3-412D-B80C-71900456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13366A-A57A-45AD-BEE6-9A777990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1AB83A-DD64-4763-9F3A-C5426093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4F4CCE-E4EA-489E-927A-EF50CD952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F799E6-D9DC-482C-8EA6-9FF0C36D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EF65CB-2CB2-4980-80EA-6D2BCDC9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6F8F94-F369-48DF-AC9E-AF77FBD0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0A363E-D899-46AD-A127-02420981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09A09-12D6-43F2-93F2-88CDAA08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673DAF-ED01-4EB3-BB08-D3E2EDFC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CA9B50-12F0-40AF-8C48-6994DD84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9DE974-B2B7-4490-AF60-BCBCEA0119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D1B01-C8CA-4A6C-AE4C-66CC41161F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AC4FB-9435-4118-80A4-BCDF63EF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3F6F8-8BA1-4CF7-87C6-9DBB0C31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80487-1715-4E7B-A3F0-42535B9E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0DE4F-B30A-4335-80C9-9292C0DDF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DE2FD-9161-4EF9-8E83-2104EA0B3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14380-3CAC-45B7-90FE-C844E725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5783E-1ADC-4F3A-BC1D-4BDD85B0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74065-315C-4E5B-850E-8A0C227F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794BA-C538-4813-AF8B-ECB9DEA4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57D01-F134-4592-9E60-B611591C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61BEC-A859-4FDE-8484-56FABFAF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A76CE-70F2-4254-BAAE-A23D49C429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5B8826-255E-4E3D-8058-A3795F555D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46C031-75CD-4256-96A6-713CD5BD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A98D71-732B-4CBB-810C-3044238B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978701-789A-4F2D-8AC8-E79F633E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7A9481-1285-46D0-B617-89AA54F40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677B9-44A4-4D59-9ED4-09E77A13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1F75BD-6B2B-4CBB-A738-24F7A772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0039DA-709C-4A91-9935-F9042FA0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667B31-A670-4EF8-B6E6-8E7BED0F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BE7E96-2246-4520-84F1-E85F0A13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9BBA40-8835-46AD-8AEF-460AC333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CAD856-2597-44E6-AE41-35EB1EF9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4BFDBF-C5D6-4CDE-8C0D-52C94E3244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5DF3AA-67F5-4824-8F0C-5DFB3FE1A0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A87F5C-45CC-4495-B18F-2C188EFC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DDC8F8-F895-43BA-A434-9BAC627B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F30F-F884-4E78-ABBD-31350173326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08F1-090B-4604-A057-C22670BE8F5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4791-381A-47FF-926C-F69AADFB5F5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5ED1-EB1C-4DE3-A7D1-FB891BD8B6F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0A0B-CE21-41BD-AF56-4319497D9D6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DEC8-3073-43F8-87F8-AC1C103D8EB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E3EB-6448-4A21-A495-93784609C87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EEEE-04D3-4E63-B756-20FC120FB6F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F3BB-72A7-436D-B086-4ACD9CDE214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6218-0EDC-4384-8AD3-97B0F8DC664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5590-4573-43B2-8156-2686319DE95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9A53-4C2B-4C5F-90E3-316555970CC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2CFF-FAAB-43D2-A106-B672231A13F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16C8-BA15-4208-803B-DF19ECA6438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06A2-79AC-4B7B-8300-D5382497067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C622-34A3-43D6-9118-832FE4E5D08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06FF-DD46-4855-9018-415E5193260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535E-17CE-4330-94D4-F79083557C7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C101-D967-4D95-AC60-A0FECB5C839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048F-8D44-43AB-9C7C-0CDFC34BDB0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8E85-E280-471F-8650-8C965AA15A7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2F60-E43F-4811-8182-805FA53EE1D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961A-132D-4366-BF6D-82E6603230E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A311-CEB8-4025-91A3-9324DD67961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jpe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8.png"/><Relationship Id="rId27" Type="http://schemas.openxmlformats.org/officeDocument/2006/relationships/image" Target="../media/image18.png"/><Relationship Id="rId28" Type="http://schemas.openxmlformats.org/officeDocument/2006/relationships/image" Target="../media/image18.png"/><Relationship Id="rId29" Type="http://schemas.openxmlformats.org/officeDocument/2006/relationships/image" Target="../media/image18.png"/><Relationship Id="rId30" Type="http://schemas.openxmlformats.org/officeDocument/2006/relationships/image" Target="../media/image18.png"/><Relationship Id="rId31" Type="http://schemas.openxmlformats.org/officeDocument/2006/relationships/image" Target="../media/image18.png"/><Relationship Id="rId32" Type="http://schemas.openxmlformats.org/officeDocument/2006/relationships/image" Target="../media/image18.png"/><Relationship Id="rId33" Type="http://schemas.openxmlformats.org/officeDocument/2006/relationships/image" Target="../media/image18.png"/><Relationship Id="rId34" Type="http://schemas.openxmlformats.org/officeDocument/2006/relationships/image" Target="../media/image18.png"/><Relationship Id="rId35" Type="http://schemas.openxmlformats.org/officeDocument/2006/relationships/image" Target="../media/image18.png"/><Relationship Id="rId36" Type="http://schemas.openxmlformats.org/officeDocument/2006/relationships/image" Target="../media/image18.png"/><Relationship Id="rId37" Type="http://schemas.openxmlformats.org/officeDocument/2006/relationships/image" Target="../media/image18.png"/><Relationship Id="rId38" Type="http://schemas.openxmlformats.org/officeDocument/2006/relationships/image" Target="../media/image18.png"/><Relationship Id="rId39" Type="http://schemas.openxmlformats.org/officeDocument/2006/relationships/image" Target="../media/image18.png"/><Relationship Id="rId40" Type="http://schemas.openxmlformats.org/officeDocument/2006/relationships/image" Target="../media/image18.png"/><Relationship Id="rId41" Type="http://schemas.openxmlformats.org/officeDocument/2006/relationships/image" Target="../media/image18.png"/><Relationship Id="rId42" Type="http://schemas.openxmlformats.org/officeDocument/2006/relationships/image" Target="../media/image18.png"/><Relationship Id="rId43" Type="http://schemas.openxmlformats.org/officeDocument/2006/relationships/image" Target="../media/image18.png"/><Relationship Id="rId44" Type="http://schemas.openxmlformats.org/officeDocument/2006/relationships/image" Target="../media/image18.png"/><Relationship Id="rId45" Type="http://schemas.openxmlformats.org/officeDocument/2006/relationships/image" Target="../media/image18.png"/><Relationship Id="rId46" Type="http://schemas.openxmlformats.org/officeDocument/2006/relationships/image" Target="../media/image18.png"/><Relationship Id="rId47" Type="http://schemas.openxmlformats.org/officeDocument/2006/relationships/image" Target="../media/image18.png"/><Relationship Id="rId48" Type="http://schemas.openxmlformats.org/officeDocument/2006/relationships/image" Target="../media/image18.png"/><Relationship Id="rId49" Type="http://schemas.openxmlformats.org/officeDocument/2006/relationships/image" Target="../media/image18.png"/><Relationship Id="rId50" Type="http://schemas.openxmlformats.org/officeDocument/2006/relationships/image" Target="../media/image18.png"/><Relationship Id="rId51" Type="http://schemas.openxmlformats.org/officeDocument/2006/relationships/image" Target="../media/image18.png"/><Relationship Id="rId52" Type="http://schemas.openxmlformats.org/officeDocument/2006/relationships/image" Target="../media/image18.png"/><Relationship Id="rId53" Type="http://schemas.openxmlformats.org/officeDocument/2006/relationships/image" Target="../media/image18.png"/><Relationship Id="rId54" Type="http://schemas.openxmlformats.org/officeDocument/2006/relationships/image" Target="../media/image18.png"/><Relationship Id="rId55" Type="http://schemas.openxmlformats.org/officeDocument/2006/relationships/image" Target="../media/image18.png"/><Relationship Id="rId56" Type="http://schemas.openxmlformats.org/officeDocument/2006/relationships/image" Target="../media/image18.png"/><Relationship Id="rId57" Type="http://schemas.openxmlformats.org/officeDocument/2006/relationships/image" Target="../media/image18.png"/><Relationship Id="rId58" Type="http://schemas.openxmlformats.org/officeDocument/2006/relationships/image" Target="../media/image18.png"/><Relationship Id="rId59" Type="http://schemas.openxmlformats.org/officeDocument/2006/relationships/image" Target="../media/image18.png"/><Relationship Id="rId60" Type="http://schemas.openxmlformats.org/officeDocument/2006/relationships/image" Target="../media/image18.png"/><Relationship Id="rId61" Type="http://schemas.openxmlformats.org/officeDocument/2006/relationships/image" Target="../media/image18.png"/><Relationship Id="rId62" Type="http://schemas.openxmlformats.org/officeDocument/2006/relationships/image" Target="../media/image18.png"/><Relationship Id="rId63" Type="http://schemas.openxmlformats.org/officeDocument/2006/relationships/image" Target="../media/image18.png"/><Relationship Id="rId64" Type="http://schemas.openxmlformats.org/officeDocument/2006/relationships/image" Target="../media/image18.png"/><Relationship Id="rId65" Type="http://schemas.openxmlformats.org/officeDocument/2006/relationships/image" Target="../media/image18.png"/><Relationship Id="rId66" Type="http://schemas.openxmlformats.org/officeDocument/2006/relationships/image" Target="../media/image18.png"/><Relationship Id="rId67" Type="http://schemas.openxmlformats.org/officeDocument/2006/relationships/image" Target="../media/image18.png"/><Relationship Id="rId68" Type="http://schemas.openxmlformats.org/officeDocument/2006/relationships/image" Target="../media/image18.png"/><Relationship Id="rId69" Type="http://schemas.openxmlformats.org/officeDocument/2006/relationships/image" Target="../media/image18.png"/><Relationship Id="rId70" Type="http://schemas.openxmlformats.org/officeDocument/2006/relationships/image" Target="../media/image18.png"/><Relationship Id="rId71" Type="http://schemas.openxmlformats.org/officeDocument/2006/relationships/image" Target="../media/image18.png"/><Relationship Id="rId72" Type="http://schemas.openxmlformats.org/officeDocument/2006/relationships/image" Target="../media/image18.png"/><Relationship Id="rId73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286000" y="2841480"/>
            <a:ext cx="558720" cy="46224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281160" y="2798640"/>
            <a:ext cx="8443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8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 乘 法 口 诀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882720" y="174456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 内 乘 法（二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-50760" y="87480"/>
            <a:ext cx="5365800" cy="527040"/>
            <a:chOff x="-50760" y="87480"/>
            <a:chExt cx="5365800" cy="527040"/>
          </a:xfrm>
        </p:grpSpPr>
        <p:pic>
          <p:nvPicPr>
            <p:cNvPr id="999" name="圆角矩形 30" descr=""/>
            <p:cNvPicPr/>
            <p:nvPr/>
          </p:nvPicPr>
          <p:blipFill>
            <a:blip r:embed="rId1"/>
            <a:stretch/>
          </p:blipFill>
          <p:spPr>
            <a:xfrm>
              <a:off x="217080" y="87480"/>
              <a:ext cx="50979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-50760" y="182520"/>
              <a:ext cx="717840" cy="274320"/>
              <a:chOff x="-50760" y="182520"/>
              <a:chExt cx="717840" cy="274320"/>
            </a:xfrm>
          </p:grpSpPr>
          <p:sp>
            <p:nvSpPr>
              <p:cNvPr id="1001" name="椭圆 35"/>
              <p:cNvSpPr/>
              <p:nvPr/>
            </p:nvSpPr>
            <p:spPr>
              <a:xfrm rot="16200000">
                <a:off x="232920" y="334440"/>
                <a:ext cx="106920" cy="13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36" descr=""/>
              <p:cNvPicPr/>
              <p:nvPr/>
            </p:nvPicPr>
            <p:blipFill>
              <a:blip r:embed="rId2"/>
              <a:stretch/>
            </p:blipFill>
            <p:spPr>
              <a:xfrm>
                <a:off x="424800" y="265680"/>
                <a:ext cx="242280" cy="7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37"/>
              <p:cNvSpPr/>
              <p:nvPr/>
            </p:nvSpPr>
            <p:spPr>
              <a:xfrm rot="16200000">
                <a:off x="232920" y="198000"/>
                <a:ext cx="106920" cy="13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40" descr=""/>
              <p:cNvPicPr/>
              <p:nvPr/>
            </p:nvPicPr>
            <p:blipFill>
              <a:blip r:embed="rId3"/>
              <a:stretch/>
            </p:blipFill>
            <p:spPr>
              <a:xfrm>
                <a:off x="424800" y="191880"/>
                <a:ext cx="242280" cy="7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276120"/>
                <a:ext cx="639720" cy="6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57760"/>
                <a:ext cx="639720" cy="6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45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0880"/>
                <a:ext cx="639720" cy="6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48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639720" cy="65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矩形 1"/>
          <p:cNvSpPr/>
          <p:nvPr/>
        </p:nvSpPr>
        <p:spPr>
          <a:xfrm>
            <a:off x="1639800" y="71280"/>
            <a:ext cx="269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Calibri"/>
                <a:ea typeface="宋体"/>
              </a:rPr>
              <a:t>一、创设情境，引入新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0" name="Picture 2" descr="D:\我的文档-桌面-收藏夹\桌面\QQ截图20150228164711.png"/>
          <p:cNvPicPr/>
          <p:nvPr/>
        </p:nvPicPr>
        <p:blipFill>
          <a:blip r:embed="rId8"/>
          <a:srcRect l="2969" t="0" r="0" b="37180"/>
          <a:stretch/>
        </p:blipFill>
        <p:spPr>
          <a:xfrm>
            <a:off x="642960" y="1111320"/>
            <a:ext cx="7701120" cy="235728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2" descr="D:\我的文档-桌面-收藏夹\桌面\QQ截图20150228164711.png"/>
          <p:cNvPicPr/>
          <p:nvPr/>
        </p:nvPicPr>
        <p:blipFill>
          <a:blip r:embed="rId9"/>
          <a:srcRect l="2969" t="64934" r="51129" b="12236"/>
          <a:stretch/>
        </p:blipFill>
        <p:spPr>
          <a:xfrm>
            <a:off x="642960" y="3951360"/>
            <a:ext cx="3643200" cy="85716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2" descr="D:\我的文档-桌面-收藏夹\桌面\QQ截图20150228164711.png"/>
          <p:cNvPicPr/>
          <p:nvPr/>
        </p:nvPicPr>
        <p:blipFill>
          <a:blip r:embed="rId10"/>
          <a:srcRect l="2969" t="87777" r="52028" b="0"/>
          <a:stretch/>
        </p:blipFill>
        <p:spPr>
          <a:xfrm>
            <a:off x="4786200" y="4308480"/>
            <a:ext cx="3571920" cy="458640"/>
          </a:xfrm>
          <a:prstGeom prst="rect">
            <a:avLst/>
          </a:prstGeom>
          <a:ln w="0">
            <a:noFill/>
          </a:ln>
        </p:spPr>
      </p:pic>
      <p:sp>
        <p:nvSpPr>
          <p:cNvPr id="1013" name="Rectangle 51"/>
          <p:cNvSpPr/>
          <p:nvPr/>
        </p:nvSpPr>
        <p:spPr>
          <a:xfrm>
            <a:off x="1500120" y="1593720"/>
            <a:ext cx="920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2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51"/>
          <p:cNvSpPr/>
          <p:nvPr/>
        </p:nvSpPr>
        <p:spPr>
          <a:xfrm>
            <a:off x="3500280" y="1593720"/>
            <a:ext cx="784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51"/>
          <p:cNvSpPr/>
          <p:nvPr/>
        </p:nvSpPr>
        <p:spPr>
          <a:xfrm>
            <a:off x="5500800" y="1593720"/>
            <a:ext cx="920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1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51"/>
          <p:cNvSpPr/>
          <p:nvPr/>
        </p:nvSpPr>
        <p:spPr>
          <a:xfrm>
            <a:off x="7429680" y="1593720"/>
            <a:ext cx="1046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3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51"/>
          <p:cNvSpPr/>
          <p:nvPr/>
        </p:nvSpPr>
        <p:spPr>
          <a:xfrm>
            <a:off x="1571760" y="2031840"/>
            <a:ext cx="922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2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51"/>
          <p:cNvSpPr/>
          <p:nvPr/>
        </p:nvSpPr>
        <p:spPr>
          <a:xfrm>
            <a:off x="3571920" y="2031840"/>
            <a:ext cx="714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51"/>
          <p:cNvSpPr/>
          <p:nvPr/>
        </p:nvSpPr>
        <p:spPr>
          <a:xfrm>
            <a:off x="5572080" y="2031840"/>
            <a:ext cx="920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Rectangle 51"/>
          <p:cNvSpPr/>
          <p:nvPr/>
        </p:nvSpPr>
        <p:spPr>
          <a:xfrm>
            <a:off x="7500960" y="2031840"/>
            <a:ext cx="92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2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51"/>
          <p:cNvSpPr/>
          <p:nvPr/>
        </p:nvSpPr>
        <p:spPr>
          <a:xfrm>
            <a:off x="2000160" y="2544840"/>
            <a:ext cx="920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3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51"/>
          <p:cNvSpPr/>
          <p:nvPr/>
        </p:nvSpPr>
        <p:spPr>
          <a:xfrm>
            <a:off x="4000680" y="2544840"/>
            <a:ext cx="785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4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51"/>
          <p:cNvSpPr/>
          <p:nvPr/>
        </p:nvSpPr>
        <p:spPr>
          <a:xfrm>
            <a:off x="5994360" y="2535120"/>
            <a:ext cx="797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4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51"/>
          <p:cNvSpPr/>
          <p:nvPr/>
        </p:nvSpPr>
        <p:spPr>
          <a:xfrm>
            <a:off x="7929720" y="2544840"/>
            <a:ext cx="838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1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51"/>
          <p:cNvSpPr/>
          <p:nvPr/>
        </p:nvSpPr>
        <p:spPr>
          <a:xfrm>
            <a:off x="2000160" y="3022560"/>
            <a:ext cx="920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2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51"/>
          <p:cNvSpPr/>
          <p:nvPr/>
        </p:nvSpPr>
        <p:spPr>
          <a:xfrm>
            <a:off x="4000680" y="3022560"/>
            <a:ext cx="785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2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51"/>
          <p:cNvSpPr/>
          <p:nvPr/>
        </p:nvSpPr>
        <p:spPr>
          <a:xfrm>
            <a:off x="5929200" y="3022560"/>
            <a:ext cx="862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2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51"/>
          <p:cNvSpPr/>
          <p:nvPr/>
        </p:nvSpPr>
        <p:spPr>
          <a:xfrm>
            <a:off x="7929720" y="3022560"/>
            <a:ext cx="922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2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51"/>
          <p:cNvSpPr/>
          <p:nvPr/>
        </p:nvSpPr>
        <p:spPr>
          <a:xfrm>
            <a:off x="1643040" y="4951440"/>
            <a:ext cx="1571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×4=2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51"/>
          <p:cNvSpPr/>
          <p:nvPr/>
        </p:nvSpPr>
        <p:spPr>
          <a:xfrm>
            <a:off x="5857920" y="4951440"/>
            <a:ext cx="1571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7×5=3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1" name="组合 2"/>
          <p:cNvGrpSpPr/>
          <p:nvPr/>
        </p:nvGrpSpPr>
        <p:grpSpPr>
          <a:xfrm>
            <a:off x="-95400" y="142920"/>
            <a:ext cx="5524560" cy="527040"/>
            <a:chOff x="-95400" y="142920"/>
            <a:chExt cx="5524560" cy="527040"/>
          </a:xfrm>
        </p:grpSpPr>
        <p:pic>
          <p:nvPicPr>
            <p:cNvPr id="1032" name="圆角矩形 30" descr=""/>
            <p:cNvPicPr/>
            <p:nvPr/>
          </p:nvPicPr>
          <p:blipFill>
            <a:blip r:embed="rId1"/>
            <a:stretch/>
          </p:blipFill>
          <p:spPr>
            <a:xfrm>
              <a:off x="181080" y="142920"/>
              <a:ext cx="524808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3" name="组合 4"/>
            <p:cNvGrpSpPr/>
            <p:nvPr/>
          </p:nvGrpSpPr>
          <p:grpSpPr>
            <a:xfrm>
              <a:off x="-95400" y="237960"/>
              <a:ext cx="739440" cy="274320"/>
              <a:chOff x="-95400" y="237960"/>
              <a:chExt cx="739440" cy="274320"/>
            </a:xfrm>
          </p:grpSpPr>
          <p:sp>
            <p:nvSpPr>
              <p:cNvPr id="1034" name="椭圆 35"/>
              <p:cNvSpPr/>
              <p:nvPr/>
            </p:nvSpPr>
            <p:spPr>
              <a:xfrm rot="16200000">
                <a:off x="190440" y="389520"/>
                <a:ext cx="106920" cy="138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5" name="椭圆 36" descr=""/>
              <p:cNvPicPr/>
              <p:nvPr/>
            </p:nvPicPr>
            <p:blipFill>
              <a:blip r:embed="rId2"/>
              <a:stretch/>
            </p:blipFill>
            <p:spPr>
              <a:xfrm>
                <a:off x="400320" y="318960"/>
                <a:ext cx="243720" cy="7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6" name="椭圆 37"/>
              <p:cNvSpPr/>
              <p:nvPr/>
            </p:nvSpPr>
            <p:spPr>
              <a:xfrm rot="16200000">
                <a:off x="190440" y="252360"/>
                <a:ext cx="106920" cy="138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7" name="椭圆 40" descr=""/>
              <p:cNvPicPr/>
              <p:nvPr/>
            </p:nvPicPr>
            <p:blipFill>
              <a:blip r:embed="rId3"/>
              <a:stretch/>
            </p:blipFill>
            <p:spPr>
              <a:xfrm>
                <a:off x="400320" y="246960"/>
                <a:ext cx="243720" cy="7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8" name="圆角矩形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-95400" y="329400"/>
                <a:ext cx="660960" cy="6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9" name="圆角矩形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-95400" y="311400"/>
                <a:ext cx="660960" cy="6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0" name="圆角矩形 45" descr=""/>
              <p:cNvPicPr/>
              <p:nvPr/>
            </p:nvPicPr>
            <p:blipFill>
              <a:blip r:embed="rId6"/>
              <a:stretch/>
            </p:blipFill>
            <p:spPr>
              <a:xfrm>
                <a:off x="-95400" y="255960"/>
                <a:ext cx="660960" cy="6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1" name="圆角矩形 48" descr=""/>
              <p:cNvPicPr/>
              <p:nvPr/>
            </p:nvPicPr>
            <p:blipFill>
              <a:blip r:embed="rId7"/>
              <a:stretch/>
            </p:blipFill>
            <p:spPr>
              <a:xfrm>
                <a:off x="-95400" y="237960"/>
                <a:ext cx="660960" cy="63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42" name="Picture 3" descr="D:\我的文档-桌面-收藏夹\桌面\20090113112823516.jpg"/>
          <p:cNvPicPr/>
          <p:nvPr/>
        </p:nvPicPr>
        <p:blipFill>
          <a:blip r:embed="rId8"/>
          <a:stretch/>
        </p:blipFill>
        <p:spPr>
          <a:xfrm>
            <a:off x="7286760" y="4576680"/>
            <a:ext cx="911160" cy="785880"/>
          </a:xfrm>
          <a:prstGeom prst="rect">
            <a:avLst/>
          </a:prstGeom>
          <a:ln w="0">
            <a:noFill/>
          </a:ln>
        </p:spPr>
      </p:pic>
      <p:grpSp>
        <p:nvGrpSpPr>
          <p:cNvPr id="1043" name="组合 91"/>
          <p:cNvGrpSpPr/>
          <p:nvPr/>
        </p:nvGrpSpPr>
        <p:grpSpPr>
          <a:xfrm>
            <a:off x="1992240" y="925560"/>
            <a:ext cx="4998960" cy="3786120"/>
            <a:chOff x="1992240" y="925560"/>
            <a:chExt cx="4998960" cy="3786120"/>
          </a:xfrm>
        </p:grpSpPr>
        <p:grpSp>
          <p:nvGrpSpPr>
            <p:cNvPr id="1044" name="组合 27"/>
            <p:cNvGrpSpPr/>
            <p:nvPr/>
          </p:nvGrpSpPr>
          <p:grpSpPr>
            <a:xfrm>
              <a:off x="1992240" y="925560"/>
              <a:ext cx="4998960" cy="992880"/>
              <a:chOff x="1992240" y="925560"/>
              <a:chExt cx="4998960" cy="992880"/>
            </a:xfrm>
          </p:grpSpPr>
          <p:pic>
            <p:nvPicPr>
              <p:cNvPr id="1045" name="Picture 2" descr="D:\我的文档-桌面-收藏夹\桌面\2006424174437572副本.png"/>
              <p:cNvPicPr/>
              <p:nvPr/>
            </p:nvPicPr>
            <p:blipFill>
              <a:blip r:embed="rId9"/>
              <a:stretch/>
            </p:blipFill>
            <p:spPr>
              <a:xfrm>
                <a:off x="1992240" y="92556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6" name="Picture 2" descr="D:\我的文档-桌面-收藏夹\桌面\2006424174437572副本.png"/>
              <p:cNvPicPr/>
              <p:nvPr/>
            </p:nvPicPr>
            <p:blipFill>
              <a:blip r:embed="rId10"/>
              <a:stretch/>
            </p:blipFill>
            <p:spPr>
              <a:xfrm>
                <a:off x="2589840" y="92556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7" name="Picture 2" descr="D:\我的文档-桌面-收藏夹\桌面\2006424174437572副本.png"/>
              <p:cNvPicPr/>
              <p:nvPr/>
            </p:nvPicPr>
            <p:blipFill>
              <a:blip r:embed="rId11"/>
              <a:stretch/>
            </p:blipFill>
            <p:spPr>
              <a:xfrm>
                <a:off x="3187800" y="92556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8" name="Picture 2" descr="D:\我的文档-桌面-收藏夹\桌面\2006424174437572副本.png"/>
              <p:cNvPicPr/>
              <p:nvPr/>
            </p:nvPicPr>
            <p:blipFill>
              <a:blip r:embed="rId12"/>
              <a:stretch/>
            </p:blipFill>
            <p:spPr>
              <a:xfrm>
                <a:off x="3785760" y="92556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9" name="Picture 2" descr="D:\我的文档-桌面-收藏夹\桌面\2006424174437572副本.png"/>
              <p:cNvPicPr/>
              <p:nvPr/>
            </p:nvPicPr>
            <p:blipFill>
              <a:blip r:embed="rId13"/>
              <a:stretch/>
            </p:blipFill>
            <p:spPr>
              <a:xfrm>
                <a:off x="4383360" y="92556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0" name="Picture 2" descr="D:\我的文档-桌面-收藏夹\桌面\2006424174437572副本.png"/>
              <p:cNvPicPr/>
              <p:nvPr/>
            </p:nvPicPr>
            <p:blipFill>
              <a:blip r:embed="rId14"/>
              <a:stretch/>
            </p:blipFill>
            <p:spPr>
              <a:xfrm>
                <a:off x="4981320" y="92556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1" name="Picture 2" descr="D:\我的文档-桌面-收藏夹\桌面\2006424174437572副本.png"/>
              <p:cNvPicPr/>
              <p:nvPr/>
            </p:nvPicPr>
            <p:blipFill>
              <a:blip r:embed="rId15"/>
              <a:stretch/>
            </p:blipFill>
            <p:spPr>
              <a:xfrm>
                <a:off x="5579280" y="92556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2" name="Picture 2" descr="D:\我的文档-桌面-收藏夹\桌面\2006424174437572副本.png"/>
              <p:cNvPicPr/>
              <p:nvPr/>
            </p:nvPicPr>
            <p:blipFill>
              <a:blip r:embed="rId16"/>
              <a:stretch/>
            </p:blipFill>
            <p:spPr>
              <a:xfrm>
                <a:off x="6177240" y="92556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3" name="组合 28"/>
            <p:cNvGrpSpPr/>
            <p:nvPr/>
          </p:nvGrpSpPr>
          <p:grpSpPr>
            <a:xfrm>
              <a:off x="1992240" y="1306440"/>
              <a:ext cx="4998960" cy="992880"/>
              <a:chOff x="1992240" y="1306440"/>
              <a:chExt cx="4998960" cy="992880"/>
            </a:xfrm>
          </p:grpSpPr>
          <p:pic>
            <p:nvPicPr>
              <p:cNvPr id="1054" name="Picture 2" descr="D:\我的文档-桌面-收藏夹\桌面\2006424174437572副本.png"/>
              <p:cNvPicPr/>
              <p:nvPr/>
            </p:nvPicPr>
            <p:blipFill>
              <a:blip r:embed="rId17"/>
              <a:stretch/>
            </p:blipFill>
            <p:spPr>
              <a:xfrm>
                <a:off x="1992240" y="130644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5" name="Picture 2" descr="D:\我的文档-桌面-收藏夹\桌面\2006424174437572副本.png"/>
              <p:cNvPicPr/>
              <p:nvPr/>
            </p:nvPicPr>
            <p:blipFill>
              <a:blip r:embed="rId18"/>
              <a:stretch/>
            </p:blipFill>
            <p:spPr>
              <a:xfrm>
                <a:off x="2589840" y="130644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6" name="Picture 2" descr="D:\我的文档-桌面-收藏夹\桌面\2006424174437572副本.png"/>
              <p:cNvPicPr/>
              <p:nvPr/>
            </p:nvPicPr>
            <p:blipFill>
              <a:blip r:embed="rId19"/>
              <a:stretch/>
            </p:blipFill>
            <p:spPr>
              <a:xfrm>
                <a:off x="3187800" y="130644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7" name="Picture 2" descr="D:\我的文档-桌面-收藏夹\桌面\2006424174437572副本.png"/>
              <p:cNvPicPr/>
              <p:nvPr/>
            </p:nvPicPr>
            <p:blipFill>
              <a:blip r:embed="rId20"/>
              <a:stretch/>
            </p:blipFill>
            <p:spPr>
              <a:xfrm>
                <a:off x="3785760" y="130644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8" name="Picture 2" descr="D:\我的文档-桌面-收藏夹\桌面\2006424174437572副本.png"/>
              <p:cNvPicPr/>
              <p:nvPr/>
            </p:nvPicPr>
            <p:blipFill>
              <a:blip r:embed="rId21"/>
              <a:stretch/>
            </p:blipFill>
            <p:spPr>
              <a:xfrm>
                <a:off x="4383360" y="130644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9" name="Picture 2" descr="D:\我的文档-桌面-收藏夹\桌面\2006424174437572副本.png"/>
              <p:cNvPicPr/>
              <p:nvPr/>
            </p:nvPicPr>
            <p:blipFill>
              <a:blip r:embed="rId22"/>
              <a:stretch/>
            </p:blipFill>
            <p:spPr>
              <a:xfrm>
                <a:off x="4981320" y="130644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0" name="Picture 2" descr="D:\我的文档-桌面-收藏夹\桌面\2006424174437572副本.png"/>
              <p:cNvPicPr/>
              <p:nvPr/>
            </p:nvPicPr>
            <p:blipFill>
              <a:blip r:embed="rId23"/>
              <a:stretch/>
            </p:blipFill>
            <p:spPr>
              <a:xfrm>
                <a:off x="5579280" y="130644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1" name="Picture 2" descr="D:\我的文档-桌面-收藏夹\桌面\2006424174437572副本.png"/>
              <p:cNvPicPr/>
              <p:nvPr/>
            </p:nvPicPr>
            <p:blipFill>
              <a:blip r:embed="rId24"/>
              <a:stretch/>
            </p:blipFill>
            <p:spPr>
              <a:xfrm>
                <a:off x="6177240" y="130644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2" name="组合 37"/>
            <p:cNvGrpSpPr/>
            <p:nvPr/>
          </p:nvGrpSpPr>
          <p:grpSpPr>
            <a:xfrm>
              <a:off x="1992240" y="1687320"/>
              <a:ext cx="4998960" cy="992880"/>
              <a:chOff x="1992240" y="1687320"/>
              <a:chExt cx="4998960" cy="992880"/>
            </a:xfrm>
          </p:grpSpPr>
          <p:pic>
            <p:nvPicPr>
              <p:cNvPr id="1063" name="Picture 2" descr="D:\我的文档-桌面-收藏夹\桌面\2006424174437572副本.png"/>
              <p:cNvPicPr/>
              <p:nvPr/>
            </p:nvPicPr>
            <p:blipFill>
              <a:blip r:embed="rId25"/>
              <a:stretch/>
            </p:blipFill>
            <p:spPr>
              <a:xfrm>
                <a:off x="1992240" y="168732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4" name="Picture 2" descr="D:\我的文档-桌面-收藏夹\桌面\2006424174437572副本.png"/>
              <p:cNvPicPr/>
              <p:nvPr/>
            </p:nvPicPr>
            <p:blipFill>
              <a:blip r:embed="rId26"/>
              <a:stretch/>
            </p:blipFill>
            <p:spPr>
              <a:xfrm>
                <a:off x="2589840" y="168732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5" name="Picture 2" descr="D:\我的文档-桌面-收藏夹\桌面\2006424174437572副本.png"/>
              <p:cNvPicPr/>
              <p:nvPr/>
            </p:nvPicPr>
            <p:blipFill>
              <a:blip r:embed="rId27"/>
              <a:stretch/>
            </p:blipFill>
            <p:spPr>
              <a:xfrm>
                <a:off x="3187800" y="168732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6" name="Picture 2" descr="D:\我的文档-桌面-收藏夹\桌面\2006424174437572副本.png"/>
              <p:cNvPicPr/>
              <p:nvPr/>
            </p:nvPicPr>
            <p:blipFill>
              <a:blip r:embed="rId28"/>
              <a:stretch/>
            </p:blipFill>
            <p:spPr>
              <a:xfrm>
                <a:off x="3785760" y="168732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7" name="Picture 2" descr="D:\我的文档-桌面-收藏夹\桌面\2006424174437572副本.png"/>
              <p:cNvPicPr/>
              <p:nvPr/>
            </p:nvPicPr>
            <p:blipFill>
              <a:blip r:embed="rId29"/>
              <a:stretch/>
            </p:blipFill>
            <p:spPr>
              <a:xfrm>
                <a:off x="4383360" y="168732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8" name="Picture 2" descr="D:\我的文档-桌面-收藏夹\桌面\2006424174437572副本.png"/>
              <p:cNvPicPr/>
              <p:nvPr/>
            </p:nvPicPr>
            <p:blipFill>
              <a:blip r:embed="rId30"/>
              <a:stretch/>
            </p:blipFill>
            <p:spPr>
              <a:xfrm>
                <a:off x="4981320" y="168732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9" name="Picture 2" descr="D:\我的文档-桌面-收藏夹\桌面\2006424174437572副本.png"/>
              <p:cNvPicPr/>
              <p:nvPr/>
            </p:nvPicPr>
            <p:blipFill>
              <a:blip r:embed="rId31"/>
              <a:stretch/>
            </p:blipFill>
            <p:spPr>
              <a:xfrm>
                <a:off x="5579280" y="168732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0" name="Picture 2" descr="D:\我的文档-桌面-收藏夹\桌面\2006424174437572副本.png"/>
              <p:cNvPicPr/>
              <p:nvPr/>
            </p:nvPicPr>
            <p:blipFill>
              <a:blip r:embed="rId32"/>
              <a:stretch/>
            </p:blipFill>
            <p:spPr>
              <a:xfrm>
                <a:off x="6177240" y="168732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71" name="组合 46"/>
            <p:cNvGrpSpPr/>
            <p:nvPr/>
          </p:nvGrpSpPr>
          <p:grpSpPr>
            <a:xfrm>
              <a:off x="1992240" y="2110320"/>
              <a:ext cx="4998960" cy="992880"/>
              <a:chOff x="1992240" y="2110320"/>
              <a:chExt cx="4998960" cy="992880"/>
            </a:xfrm>
          </p:grpSpPr>
          <p:pic>
            <p:nvPicPr>
              <p:cNvPr id="1072" name="Picture 2" descr="D:\我的文档-桌面-收藏夹\桌面\2006424174437572副本.png"/>
              <p:cNvPicPr/>
              <p:nvPr/>
            </p:nvPicPr>
            <p:blipFill>
              <a:blip r:embed="rId33"/>
              <a:stretch/>
            </p:blipFill>
            <p:spPr>
              <a:xfrm>
                <a:off x="1992240" y="211032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3" name="Picture 2" descr="D:\我的文档-桌面-收藏夹\桌面\2006424174437572副本.png"/>
              <p:cNvPicPr/>
              <p:nvPr/>
            </p:nvPicPr>
            <p:blipFill>
              <a:blip r:embed="rId34"/>
              <a:stretch/>
            </p:blipFill>
            <p:spPr>
              <a:xfrm>
                <a:off x="2589840" y="211032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4" name="Picture 2" descr="D:\我的文档-桌面-收藏夹\桌面\2006424174437572副本.png"/>
              <p:cNvPicPr/>
              <p:nvPr/>
            </p:nvPicPr>
            <p:blipFill>
              <a:blip r:embed="rId35"/>
              <a:stretch/>
            </p:blipFill>
            <p:spPr>
              <a:xfrm>
                <a:off x="3187800" y="211032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5" name="Picture 2" descr="D:\我的文档-桌面-收藏夹\桌面\2006424174437572副本.png"/>
              <p:cNvPicPr/>
              <p:nvPr/>
            </p:nvPicPr>
            <p:blipFill>
              <a:blip r:embed="rId36"/>
              <a:stretch/>
            </p:blipFill>
            <p:spPr>
              <a:xfrm>
                <a:off x="3785760" y="211032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6" name="Picture 2" descr="D:\我的文档-桌面-收藏夹\桌面\2006424174437572副本.png"/>
              <p:cNvPicPr/>
              <p:nvPr/>
            </p:nvPicPr>
            <p:blipFill>
              <a:blip r:embed="rId37"/>
              <a:stretch/>
            </p:blipFill>
            <p:spPr>
              <a:xfrm>
                <a:off x="4383360" y="211032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7" name="Picture 2" descr="D:\我的文档-桌面-收藏夹\桌面\2006424174437572副本.png"/>
              <p:cNvPicPr/>
              <p:nvPr/>
            </p:nvPicPr>
            <p:blipFill>
              <a:blip r:embed="rId38"/>
              <a:stretch/>
            </p:blipFill>
            <p:spPr>
              <a:xfrm>
                <a:off x="4981320" y="211032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8" name="Picture 2" descr="D:\我的文档-桌面-收藏夹\桌面\2006424174437572副本.png"/>
              <p:cNvPicPr/>
              <p:nvPr/>
            </p:nvPicPr>
            <p:blipFill>
              <a:blip r:embed="rId39"/>
              <a:stretch/>
            </p:blipFill>
            <p:spPr>
              <a:xfrm>
                <a:off x="5579280" y="211032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9" name="Picture 2" descr="D:\我的文档-桌面-收藏夹\桌面\2006424174437572副本.png"/>
              <p:cNvPicPr/>
              <p:nvPr/>
            </p:nvPicPr>
            <p:blipFill>
              <a:blip r:embed="rId40"/>
              <a:stretch/>
            </p:blipFill>
            <p:spPr>
              <a:xfrm>
                <a:off x="6177240" y="211032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组合 55"/>
            <p:cNvGrpSpPr/>
            <p:nvPr/>
          </p:nvGrpSpPr>
          <p:grpSpPr>
            <a:xfrm>
              <a:off x="1992240" y="2533680"/>
              <a:ext cx="4998960" cy="992880"/>
              <a:chOff x="1992240" y="2533680"/>
              <a:chExt cx="4998960" cy="992880"/>
            </a:xfrm>
          </p:grpSpPr>
          <p:pic>
            <p:nvPicPr>
              <p:cNvPr id="1081" name="Picture 2" descr="D:\我的文档-桌面-收藏夹\桌面\2006424174437572副本.png"/>
              <p:cNvPicPr/>
              <p:nvPr/>
            </p:nvPicPr>
            <p:blipFill>
              <a:blip r:embed="rId41"/>
              <a:stretch/>
            </p:blipFill>
            <p:spPr>
              <a:xfrm>
                <a:off x="1992240" y="253368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2" name="Picture 2" descr="D:\我的文档-桌面-收藏夹\桌面\2006424174437572副本.png"/>
              <p:cNvPicPr/>
              <p:nvPr/>
            </p:nvPicPr>
            <p:blipFill>
              <a:blip r:embed="rId42"/>
              <a:stretch/>
            </p:blipFill>
            <p:spPr>
              <a:xfrm>
                <a:off x="2589840" y="253368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3" name="Picture 2" descr="D:\我的文档-桌面-收藏夹\桌面\2006424174437572副本.png"/>
              <p:cNvPicPr/>
              <p:nvPr/>
            </p:nvPicPr>
            <p:blipFill>
              <a:blip r:embed="rId43"/>
              <a:stretch/>
            </p:blipFill>
            <p:spPr>
              <a:xfrm>
                <a:off x="3187800" y="253368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4" name="Picture 2" descr="D:\我的文档-桌面-收藏夹\桌面\2006424174437572副本.png"/>
              <p:cNvPicPr/>
              <p:nvPr/>
            </p:nvPicPr>
            <p:blipFill>
              <a:blip r:embed="rId44"/>
              <a:stretch/>
            </p:blipFill>
            <p:spPr>
              <a:xfrm>
                <a:off x="3785760" y="253368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5" name="Picture 2" descr="D:\我的文档-桌面-收藏夹\桌面\2006424174437572副本.png"/>
              <p:cNvPicPr/>
              <p:nvPr/>
            </p:nvPicPr>
            <p:blipFill>
              <a:blip r:embed="rId45"/>
              <a:stretch/>
            </p:blipFill>
            <p:spPr>
              <a:xfrm>
                <a:off x="4383360" y="253368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6" name="Picture 2" descr="D:\我的文档-桌面-收藏夹\桌面\2006424174437572副本.png"/>
              <p:cNvPicPr/>
              <p:nvPr/>
            </p:nvPicPr>
            <p:blipFill>
              <a:blip r:embed="rId46"/>
              <a:stretch/>
            </p:blipFill>
            <p:spPr>
              <a:xfrm>
                <a:off x="4981320" y="253368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7" name="Picture 2" descr="D:\我的文档-桌面-收藏夹\桌面\2006424174437572副本.png"/>
              <p:cNvPicPr/>
              <p:nvPr/>
            </p:nvPicPr>
            <p:blipFill>
              <a:blip r:embed="rId47"/>
              <a:stretch/>
            </p:blipFill>
            <p:spPr>
              <a:xfrm>
                <a:off x="5579280" y="253368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8" name="Picture 2" descr="D:\我的文档-桌面-收藏夹\桌面\2006424174437572副本.png"/>
              <p:cNvPicPr/>
              <p:nvPr/>
            </p:nvPicPr>
            <p:blipFill>
              <a:blip r:embed="rId48"/>
              <a:stretch/>
            </p:blipFill>
            <p:spPr>
              <a:xfrm>
                <a:off x="6177240" y="253368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9" name="组合 64"/>
            <p:cNvGrpSpPr/>
            <p:nvPr/>
          </p:nvGrpSpPr>
          <p:grpSpPr>
            <a:xfrm>
              <a:off x="1992240" y="2914560"/>
              <a:ext cx="4998960" cy="992880"/>
              <a:chOff x="1992240" y="2914560"/>
              <a:chExt cx="4998960" cy="992880"/>
            </a:xfrm>
          </p:grpSpPr>
          <p:pic>
            <p:nvPicPr>
              <p:cNvPr id="1090" name="Picture 2" descr="D:\我的文档-桌面-收藏夹\桌面\2006424174437572副本.png"/>
              <p:cNvPicPr/>
              <p:nvPr/>
            </p:nvPicPr>
            <p:blipFill>
              <a:blip r:embed="rId49"/>
              <a:stretch/>
            </p:blipFill>
            <p:spPr>
              <a:xfrm>
                <a:off x="1992240" y="291456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1" name="Picture 2" descr="D:\我的文档-桌面-收藏夹\桌面\2006424174437572副本.png"/>
              <p:cNvPicPr/>
              <p:nvPr/>
            </p:nvPicPr>
            <p:blipFill>
              <a:blip r:embed="rId50"/>
              <a:stretch/>
            </p:blipFill>
            <p:spPr>
              <a:xfrm>
                <a:off x="2589840" y="291456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2" name="Picture 2" descr="D:\我的文档-桌面-收藏夹\桌面\2006424174437572副本.png"/>
              <p:cNvPicPr/>
              <p:nvPr/>
            </p:nvPicPr>
            <p:blipFill>
              <a:blip r:embed="rId51"/>
              <a:stretch/>
            </p:blipFill>
            <p:spPr>
              <a:xfrm>
                <a:off x="3187800" y="291456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3" name="Picture 2" descr="D:\我的文档-桌面-收藏夹\桌面\2006424174437572副本.png"/>
              <p:cNvPicPr/>
              <p:nvPr/>
            </p:nvPicPr>
            <p:blipFill>
              <a:blip r:embed="rId52"/>
              <a:stretch/>
            </p:blipFill>
            <p:spPr>
              <a:xfrm>
                <a:off x="3785760" y="291456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4" name="Picture 2" descr="D:\我的文档-桌面-收藏夹\桌面\2006424174437572副本.png"/>
              <p:cNvPicPr/>
              <p:nvPr/>
            </p:nvPicPr>
            <p:blipFill>
              <a:blip r:embed="rId53"/>
              <a:stretch/>
            </p:blipFill>
            <p:spPr>
              <a:xfrm>
                <a:off x="4383360" y="291456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5" name="Picture 2" descr="D:\我的文档-桌面-收藏夹\桌面\2006424174437572副本.png"/>
              <p:cNvPicPr/>
              <p:nvPr/>
            </p:nvPicPr>
            <p:blipFill>
              <a:blip r:embed="rId54"/>
              <a:stretch/>
            </p:blipFill>
            <p:spPr>
              <a:xfrm>
                <a:off x="4981320" y="291456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6" name="Picture 2" descr="D:\我的文档-桌面-收藏夹\桌面\2006424174437572副本.png"/>
              <p:cNvPicPr/>
              <p:nvPr/>
            </p:nvPicPr>
            <p:blipFill>
              <a:blip r:embed="rId55"/>
              <a:stretch/>
            </p:blipFill>
            <p:spPr>
              <a:xfrm>
                <a:off x="5579280" y="291456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7" name="Picture 2" descr="D:\我的文档-桌面-收藏夹\桌面\2006424174437572副本.png"/>
              <p:cNvPicPr/>
              <p:nvPr/>
            </p:nvPicPr>
            <p:blipFill>
              <a:blip r:embed="rId56"/>
              <a:stretch/>
            </p:blipFill>
            <p:spPr>
              <a:xfrm>
                <a:off x="6177240" y="291456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8" name="组合 73"/>
            <p:cNvGrpSpPr/>
            <p:nvPr/>
          </p:nvGrpSpPr>
          <p:grpSpPr>
            <a:xfrm>
              <a:off x="1992240" y="3295440"/>
              <a:ext cx="4998960" cy="992880"/>
              <a:chOff x="1992240" y="3295440"/>
              <a:chExt cx="4998960" cy="992880"/>
            </a:xfrm>
          </p:grpSpPr>
          <p:pic>
            <p:nvPicPr>
              <p:cNvPr id="1099" name="Picture 2" descr="D:\我的文档-桌面-收藏夹\桌面\2006424174437572副本.png"/>
              <p:cNvPicPr/>
              <p:nvPr/>
            </p:nvPicPr>
            <p:blipFill>
              <a:blip r:embed="rId57"/>
              <a:stretch/>
            </p:blipFill>
            <p:spPr>
              <a:xfrm>
                <a:off x="1992240" y="329544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0" name="Picture 2" descr="D:\我的文档-桌面-收藏夹\桌面\2006424174437572副本.png"/>
              <p:cNvPicPr/>
              <p:nvPr/>
            </p:nvPicPr>
            <p:blipFill>
              <a:blip r:embed="rId58"/>
              <a:stretch/>
            </p:blipFill>
            <p:spPr>
              <a:xfrm>
                <a:off x="2589840" y="329544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1" name="Picture 2" descr="D:\我的文档-桌面-收藏夹\桌面\2006424174437572副本.png"/>
              <p:cNvPicPr/>
              <p:nvPr/>
            </p:nvPicPr>
            <p:blipFill>
              <a:blip r:embed="rId59"/>
              <a:stretch/>
            </p:blipFill>
            <p:spPr>
              <a:xfrm>
                <a:off x="3187800" y="329544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2" name="Picture 2" descr="D:\我的文档-桌面-收藏夹\桌面\2006424174437572副本.png"/>
              <p:cNvPicPr/>
              <p:nvPr/>
            </p:nvPicPr>
            <p:blipFill>
              <a:blip r:embed="rId60"/>
              <a:stretch/>
            </p:blipFill>
            <p:spPr>
              <a:xfrm>
                <a:off x="3785760" y="329544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3" name="Picture 2" descr="D:\我的文档-桌面-收藏夹\桌面\2006424174437572副本.png"/>
              <p:cNvPicPr/>
              <p:nvPr/>
            </p:nvPicPr>
            <p:blipFill>
              <a:blip r:embed="rId61"/>
              <a:stretch/>
            </p:blipFill>
            <p:spPr>
              <a:xfrm>
                <a:off x="4383360" y="329544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4" name="Picture 2" descr="D:\我的文档-桌面-收藏夹\桌面\2006424174437572副本.png"/>
              <p:cNvPicPr/>
              <p:nvPr/>
            </p:nvPicPr>
            <p:blipFill>
              <a:blip r:embed="rId62"/>
              <a:stretch/>
            </p:blipFill>
            <p:spPr>
              <a:xfrm>
                <a:off x="4981320" y="329544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5" name="Picture 2" descr="D:\我的文档-桌面-收藏夹\桌面\2006424174437572副本.png"/>
              <p:cNvPicPr/>
              <p:nvPr/>
            </p:nvPicPr>
            <p:blipFill>
              <a:blip r:embed="rId63"/>
              <a:stretch/>
            </p:blipFill>
            <p:spPr>
              <a:xfrm>
                <a:off x="5579280" y="329544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6" name="Picture 2" descr="D:\我的文档-桌面-收藏夹\桌面\2006424174437572副本.png"/>
              <p:cNvPicPr/>
              <p:nvPr/>
            </p:nvPicPr>
            <p:blipFill>
              <a:blip r:embed="rId64"/>
              <a:stretch/>
            </p:blipFill>
            <p:spPr>
              <a:xfrm>
                <a:off x="6177240" y="329544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7" name="组合 82"/>
            <p:cNvGrpSpPr/>
            <p:nvPr/>
          </p:nvGrpSpPr>
          <p:grpSpPr>
            <a:xfrm>
              <a:off x="1992240" y="3718800"/>
              <a:ext cx="4998960" cy="992880"/>
              <a:chOff x="1992240" y="3718800"/>
              <a:chExt cx="4998960" cy="992880"/>
            </a:xfrm>
          </p:grpSpPr>
          <p:pic>
            <p:nvPicPr>
              <p:cNvPr id="1108" name="Picture 2" descr="D:\我的文档-桌面-收藏夹\桌面\2006424174437572副本.png"/>
              <p:cNvPicPr/>
              <p:nvPr/>
            </p:nvPicPr>
            <p:blipFill>
              <a:blip r:embed="rId65"/>
              <a:stretch/>
            </p:blipFill>
            <p:spPr>
              <a:xfrm>
                <a:off x="1992240" y="371880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9" name="Picture 2" descr="D:\我的文档-桌面-收藏夹\桌面\2006424174437572副本.png"/>
              <p:cNvPicPr/>
              <p:nvPr/>
            </p:nvPicPr>
            <p:blipFill>
              <a:blip r:embed="rId66"/>
              <a:stretch/>
            </p:blipFill>
            <p:spPr>
              <a:xfrm>
                <a:off x="2589840" y="371880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0" name="Picture 2" descr="D:\我的文档-桌面-收藏夹\桌面\2006424174437572副本.png"/>
              <p:cNvPicPr/>
              <p:nvPr/>
            </p:nvPicPr>
            <p:blipFill>
              <a:blip r:embed="rId67"/>
              <a:stretch/>
            </p:blipFill>
            <p:spPr>
              <a:xfrm>
                <a:off x="3187800" y="371880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1" name="Picture 2" descr="D:\我的文档-桌面-收藏夹\桌面\2006424174437572副本.png"/>
              <p:cNvPicPr/>
              <p:nvPr/>
            </p:nvPicPr>
            <p:blipFill>
              <a:blip r:embed="rId68"/>
              <a:stretch/>
            </p:blipFill>
            <p:spPr>
              <a:xfrm>
                <a:off x="3785760" y="371880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2" name="Picture 2" descr="D:\我的文档-桌面-收藏夹\桌面\2006424174437572副本.png"/>
              <p:cNvPicPr/>
              <p:nvPr/>
            </p:nvPicPr>
            <p:blipFill>
              <a:blip r:embed="rId69"/>
              <a:stretch/>
            </p:blipFill>
            <p:spPr>
              <a:xfrm>
                <a:off x="4383360" y="371880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3" name="Picture 2" descr="D:\我的文档-桌面-收藏夹\桌面\2006424174437572副本.png"/>
              <p:cNvPicPr/>
              <p:nvPr/>
            </p:nvPicPr>
            <p:blipFill>
              <a:blip r:embed="rId70"/>
              <a:stretch/>
            </p:blipFill>
            <p:spPr>
              <a:xfrm>
                <a:off x="4981320" y="371880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4" name="Picture 2" descr="D:\我的文档-桌面-收藏夹\桌面\2006424174437572副本.png"/>
              <p:cNvPicPr/>
              <p:nvPr/>
            </p:nvPicPr>
            <p:blipFill>
              <a:blip r:embed="rId71"/>
              <a:stretch/>
            </p:blipFill>
            <p:spPr>
              <a:xfrm>
                <a:off x="5579280" y="371880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5" name="Picture 2" descr="D:\我的文档-桌面-收藏夹\桌面\2006424174437572副本.png"/>
              <p:cNvPicPr/>
              <p:nvPr/>
            </p:nvPicPr>
            <p:blipFill>
              <a:blip r:embed="rId72"/>
              <a:stretch/>
            </p:blipFill>
            <p:spPr>
              <a:xfrm>
                <a:off x="6177240" y="371880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cxnSp>
        <p:nvCxnSpPr>
          <p:cNvPr id="1116" name="直接箭头连接符 93"/>
          <p:cNvCxnSpPr/>
          <p:nvPr/>
        </p:nvCxnSpPr>
        <p:spPr>
          <a:xfrm>
            <a:off x="571680" y="5355720"/>
            <a:ext cx="785880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117" name="组合 102"/>
          <p:cNvGrpSpPr/>
          <p:nvPr/>
        </p:nvGrpSpPr>
        <p:grpSpPr>
          <a:xfrm>
            <a:off x="547560" y="4858920"/>
            <a:ext cx="3873960" cy="1429200"/>
            <a:chOff x="547560" y="4858920"/>
            <a:chExt cx="3873960" cy="1429200"/>
          </a:xfrm>
        </p:grpSpPr>
        <p:sp>
          <p:nvSpPr>
            <p:cNvPr id="1118" name="弧形 96"/>
            <p:cNvSpPr/>
            <p:nvPr/>
          </p:nvSpPr>
          <p:spPr>
            <a:xfrm rot="17807400">
              <a:off x="646200" y="5113080"/>
              <a:ext cx="1136520" cy="920520"/>
            </a:xfrm>
            <a:custGeom>
              <a:avLst/>
              <a:gdLst/>
              <a:ahLst/>
              <a:rect l="l" t="t" r="r" b="b"/>
              <a:pathLst>
                <a:path stroke="0" w="1425756" h="1262446">
                  <a:moveTo>
                    <a:pt x="712877" y="0"/>
                  </a:moveTo>
                  <a:cubicBezTo>
                    <a:pt x="1106589" y="0"/>
                    <a:pt x="1425755" y="282608"/>
                    <a:pt x="1425755" y="631223"/>
                  </a:cubicBezTo>
                  <a:cubicBezTo>
                    <a:pt x="1425755" y="791989"/>
                    <a:pt x="1357880" y="938717"/>
                    <a:pt x="1246121" y="1050164"/>
                  </a:cubicBezTo>
                  <a:lnTo>
                    <a:pt x="712878" y="631223"/>
                  </a:lnTo>
                  <a:close/>
                </a:path>
                <a:path fill="none" w="1425756" h="1262446">
                  <a:moveTo>
                    <a:pt x="712877" y="0"/>
                  </a:moveTo>
                  <a:cubicBezTo>
                    <a:pt x="1106589" y="0"/>
                    <a:pt x="1425755" y="282608"/>
                    <a:pt x="1425755" y="631223"/>
                  </a:cubicBezTo>
                  <a:cubicBezTo>
                    <a:pt x="1425755" y="791989"/>
                    <a:pt x="1357880" y="938717"/>
                    <a:pt x="1246121" y="105016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弧形 97"/>
            <p:cNvSpPr/>
            <p:nvPr/>
          </p:nvSpPr>
          <p:spPr>
            <a:xfrm rot="17807400">
              <a:off x="1519200" y="5113080"/>
              <a:ext cx="1136520" cy="920520"/>
            </a:xfrm>
            <a:custGeom>
              <a:avLst/>
              <a:gdLst/>
              <a:ahLst/>
              <a:rect l="l" t="t" r="r" b="b"/>
              <a:pathLst>
                <a:path stroke="0" w="1425756" h="1262446">
                  <a:moveTo>
                    <a:pt x="712877" y="0"/>
                  </a:moveTo>
                  <a:cubicBezTo>
                    <a:pt x="1106589" y="0"/>
                    <a:pt x="1425755" y="282608"/>
                    <a:pt x="1425755" y="631223"/>
                  </a:cubicBezTo>
                  <a:cubicBezTo>
                    <a:pt x="1425755" y="791989"/>
                    <a:pt x="1357880" y="938717"/>
                    <a:pt x="1246121" y="1050164"/>
                  </a:cubicBezTo>
                  <a:lnTo>
                    <a:pt x="712878" y="631223"/>
                  </a:lnTo>
                  <a:close/>
                </a:path>
                <a:path fill="none" w="1425756" h="1262446">
                  <a:moveTo>
                    <a:pt x="712877" y="0"/>
                  </a:moveTo>
                  <a:cubicBezTo>
                    <a:pt x="1106589" y="0"/>
                    <a:pt x="1425755" y="282608"/>
                    <a:pt x="1425755" y="631223"/>
                  </a:cubicBezTo>
                  <a:cubicBezTo>
                    <a:pt x="1425755" y="791989"/>
                    <a:pt x="1357880" y="938717"/>
                    <a:pt x="1246121" y="105016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弧形 98"/>
            <p:cNvSpPr/>
            <p:nvPr/>
          </p:nvSpPr>
          <p:spPr>
            <a:xfrm rot="17807400">
              <a:off x="2352600" y="5113080"/>
              <a:ext cx="1136520" cy="920520"/>
            </a:xfrm>
            <a:custGeom>
              <a:avLst/>
              <a:gdLst/>
              <a:ahLst/>
              <a:rect l="l" t="t" r="r" b="b"/>
              <a:pathLst>
                <a:path stroke="0" w="1425756" h="1262446">
                  <a:moveTo>
                    <a:pt x="712877" y="0"/>
                  </a:moveTo>
                  <a:cubicBezTo>
                    <a:pt x="1106589" y="0"/>
                    <a:pt x="1425755" y="282608"/>
                    <a:pt x="1425755" y="631223"/>
                  </a:cubicBezTo>
                  <a:cubicBezTo>
                    <a:pt x="1425755" y="791989"/>
                    <a:pt x="1357880" y="938717"/>
                    <a:pt x="1246121" y="1050164"/>
                  </a:cubicBezTo>
                  <a:lnTo>
                    <a:pt x="712878" y="631223"/>
                  </a:lnTo>
                  <a:close/>
                </a:path>
                <a:path fill="none" w="1425756" h="1262446">
                  <a:moveTo>
                    <a:pt x="712877" y="0"/>
                  </a:moveTo>
                  <a:cubicBezTo>
                    <a:pt x="1106589" y="0"/>
                    <a:pt x="1425755" y="282608"/>
                    <a:pt x="1425755" y="631223"/>
                  </a:cubicBezTo>
                  <a:cubicBezTo>
                    <a:pt x="1425755" y="791989"/>
                    <a:pt x="1357880" y="938717"/>
                    <a:pt x="1246121" y="105016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弧形 99"/>
            <p:cNvSpPr/>
            <p:nvPr/>
          </p:nvSpPr>
          <p:spPr>
            <a:xfrm rot="17807400">
              <a:off x="3186360" y="5113080"/>
              <a:ext cx="1136520" cy="920520"/>
            </a:xfrm>
            <a:custGeom>
              <a:avLst/>
              <a:gdLst/>
              <a:ahLst/>
              <a:rect l="l" t="t" r="r" b="b"/>
              <a:pathLst>
                <a:path stroke="0" w="1425756" h="1262446">
                  <a:moveTo>
                    <a:pt x="712877" y="0"/>
                  </a:moveTo>
                  <a:cubicBezTo>
                    <a:pt x="1106589" y="0"/>
                    <a:pt x="1425755" y="282608"/>
                    <a:pt x="1425755" y="631223"/>
                  </a:cubicBezTo>
                  <a:cubicBezTo>
                    <a:pt x="1425755" y="791989"/>
                    <a:pt x="1357880" y="938717"/>
                    <a:pt x="1246121" y="1050164"/>
                  </a:cubicBezTo>
                  <a:lnTo>
                    <a:pt x="712878" y="631223"/>
                  </a:lnTo>
                  <a:close/>
                </a:path>
                <a:path fill="none" w="1425756" h="1262446">
                  <a:moveTo>
                    <a:pt x="712877" y="0"/>
                  </a:moveTo>
                  <a:cubicBezTo>
                    <a:pt x="1106589" y="0"/>
                    <a:pt x="1425755" y="282608"/>
                    <a:pt x="1425755" y="631223"/>
                  </a:cubicBezTo>
                  <a:cubicBezTo>
                    <a:pt x="1425755" y="791989"/>
                    <a:pt x="1357880" y="938717"/>
                    <a:pt x="1246121" y="105016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2" name="组合 103"/>
          <p:cNvGrpSpPr/>
          <p:nvPr/>
        </p:nvGrpSpPr>
        <p:grpSpPr>
          <a:xfrm>
            <a:off x="3936600" y="4858560"/>
            <a:ext cx="3874320" cy="1429560"/>
            <a:chOff x="3936600" y="4858560"/>
            <a:chExt cx="3874320" cy="1429560"/>
          </a:xfrm>
        </p:grpSpPr>
        <p:sp>
          <p:nvSpPr>
            <p:cNvPr id="1123" name="弧形 104"/>
            <p:cNvSpPr/>
            <p:nvPr/>
          </p:nvSpPr>
          <p:spPr>
            <a:xfrm rot="17807400">
              <a:off x="4035240" y="5112720"/>
              <a:ext cx="1136520" cy="920880"/>
            </a:xfrm>
            <a:custGeom>
              <a:avLst/>
              <a:gdLst/>
              <a:ahLst/>
              <a:rect l="l" t="t" r="r" b="b"/>
              <a:pathLst>
                <a:path stroke="0" w="1425756" h="1262446">
                  <a:moveTo>
                    <a:pt x="712877" y="0"/>
                  </a:moveTo>
                  <a:cubicBezTo>
                    <a:pt x="1106589" y="0"/>
                    <a:pt x="1425755" y="282608"/>
                    <a:pt x="1425755" y="631223"/>
                  </a:cubicBezTo>
                  <a:cubicBezTo>
                    <a:pt x="1425755" y="791989"/>
                    <a:pt x="1357880" y="938717"/>
                    <a:pt x="1246121" y="1050164"/>
                  </a:cubicBezTo>
                  <a:lnTo>
                    <a:pt x="712878" y="631223"/>
                  </a:lnTo>
                  <a:close/>
                </a:path>
                <a:path fill="none" w="1425756" h="1262446">
                  <a:moveTo>
                    <a:pt x="712877" y="0"/>
                  </a:moveTo>
                  <a:cubicBezTo>
                    <a:pt x="1106589" y="0"/>
                    <a:pt x="1425755" y="282608"/>
                    <a:pt x="1425755" y="631223"/>
                  </a:cubicBezTo>
                  <a:cubicBezTo>
                    <a:pt x="1425755" y="791989"/>
                    <a:pt x="1357880" y="938717"/>
                    <a:pt x="1246121" y="105016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弧形 105"/>
            <p:cNvSpPr/>
            <p:nvPr/>
          </p:nvSpPr>
          <p:spPr>
            <a:xfrm rot="17807400">
              <a:off x="4908240" y="5112720"/>
              <a:ext cx="1136520" cy="920880"/>
            </a:xfrm>
            <a:custGeom>
              <a:avLst/>
              <a:gdLst/>
              <a:ahLst/>
              <a:rect l="l" t="t" r="r" b="b"/>
              <a:pathLst>
                <a:path stroke="0" w="1425756" h="1262446">
                  <a:moveTo>
                    <a:pt x="712877" y="0"/>
                  </a:moveTo>
                  <a:cubicBezTo>
                    <a:pt x="1106589" y="0"/>
                    <a:pt x="1425755" y="282608"/>
                    <a:pt x="1425755" y="631223"/>
                  </a:cubicBezTo>
                  <a:cubicBezTo>
                    <a:pt x="1425755" y="791989"/>
                    <a:pt x="1357880" y="938717"/>
                    <a:pt x="1246121" y="1050164"/>
                  </a:cubicBezTo>
                  <a:lnTo>
                    <a:pt x="712878" y="631223"/>
                  </a:lnTo>
                  <a:close/>
                </a:path>
                <a:path fill="none" w="1425756" h="1262446">
                  <a:moveTo>
                    <a:pt x="712877" y="0"/>
                  </a:moveTo>
                  <a:cubicBezTo>
                    <a:pt x="1106589" y="0"/>
                    <a:pt x="1425755" y="282608"/>
                    <a:pt x="1425755" y="631223"/>
                  </a:cubicBezTo>
                  <a:cubicBezTo>
                    <a:pt x="1425755" y="791989"/>
                    <a:pt x="1357880" y="938717"/>
                    <a:pt x="1246121" y="105016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弧形 106"/>
            <p:cNvSpPr/>
            <p:nvPr/>
          </p:nvSpPr>
          <p:spPr>
            <a:xfrm rot="17807400">
              <a:off x="5742000" y="5112720"/>
              <a:ext cx="1136520" cy="920880"/>
            </a:xfrm>
            <a:custGeom>
              <a:avLst/>
              <a:gdLst/>
              <a:ahLst/>
              <a:rect l="l" t="t" r="r" b="b"/>
              <a:pathLst>
                <a:path stroke="0" w="1425756" h="1262446">
                  <a:moveTo>
                    <a:pt x="712877" y="0"/>
                  </a:moveTo>
                  <a:cubicBezTo>
                    <a:pt x="1106589" y="0"/>
                    <a:pt x="1425755" y="282608"/>
                    <a:pt x="1425755" y="631223"/>
                  </a:cubicBezTo>
                  <a:cubicBezTo>
                    <a:pt x="1425755" y="791989"/>
                    <a:pt x="1357880" y="938717"/>
                    <a:pt x="1246121" y="1050164"/>
                  </a:cubicBezTo>
                  <a:lnTo>
                    <a:pt x="712878" y="631223"/>
                  </a:lnTo>
                  <a:close/>
                </a:path>
                <a:path fill="none" w="1425756" h="1262446">
                  <a:moveTo>
                    <a:pt x="712877" y="0"/>
                  </a:moveTo>
                  <a:cubicBezTo>
                    <a:pt x="1106589" y="0"/>
                    <a:pt x="1425755" y="282608"/>
                    <a:pt x="1425755" y="631223"/>
                  </a:cubicBezTo>
                  <a:cubicBezTo>
                    <a:pt x="1425755" y="791989"/>
                    <a:pt x="1357880" y="938717"/>
                    <a:pt x="1246121" y="105016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弧形 107"/>
            <p:cNvSpPr/>
            <p:nvPr/>
          </p:nvSpPr>
          <p:spPr>
            <a:xfrm rot="17807400">
              <a:off x="6575400" y="5112720"/>
              <a:ext cx="1136520" cy="920880"/>
            </a:xfrm>
            <a:custGeom>
              <a:avLst/>
              <a:gdLst/>
              <a:ahLst/>
              <a:rect l="l" t="t" r="r" b="b"/>
              <a:pathLst>
                <a:path stroke="0" w="1425756" h="1262446">
                  <a:moveTo>
                    <a:pt x="712877" y="0"/>
                  </a:moveTo>
                  <a:cubicBezTo>
                    <a:pt x="1106589" y="0"/>
                    <a:pt x="1425755" y="282608"/>
                    <a:pt x="1425755" y="631223"/>
                  </a:cubicBezTo>
                  <a:cubicBezTo>
                    <a:pt x="1425755" y="791989"/>
                    <a:pt x="1357880" y="938717"/>
                    <a:pt x="1246121" y="1050164"/>
                  </a:cubicBezTo>
                  <a:lnTo>
                    <a:pt x="712878" y="631223"/>
                  </a:lnTo>
                  <a:close/>
                </a:path>
                <a:path fill="none" w="1425756" h="1262446">
                  <a:moveTo>
                    <a:pt x="712877" y="0"/>
                  </a:moveTo>
                  <a:cubicBezTo>
                    <a:pt x="1106589" y="0"/>
                    <a:pt x="1425755" y="282608"/>
                    <a:pt x="1425755" y="631223"/>
                  </a:cubicBezTo>
                  <a:cubicBezTo>
                    <a:pt x="1425755" y="791989"/>
                    <a:pt x="1357880" y="938717"/>
                    <a:pt x="1246121" y="105016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7" name="TextBox 111"/>
          <p:cNvSpPr/>
          <p:nvPr/>
        </p:nvSpPr>
        <p:spPr>
          <a:xfrm>
            <a:off x="714240" y="5433840"/>
            <a:ext cx="22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0    8    1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矩形 1"/>
          <p:cNvSpPr/>
          <p:nvPr/>
        </p:nvSpPr>
        <p:spPr>
          <a:xfrm>
            <a:off x="2072520" y="142920"/>
            <a:ext cx="18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Calibri"/>
                <a:ea typeface="宋体"/>
              </a:rPr>
              <a:t>二、自主探究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8</a:t>
            </a:r>
            <a:r>
              <a:rPr b="1" lang="zh-CN" sz="3000" spc="-1" strike="noStrike">
                <a:solidFill>
                  <a:srgbClr val="ffffff"/>
                </a:solidFill>
                <a:latin typeface="Calibri"/>
                <a:ea typeface="宋体"/>
              </a:rPr>
              <a:t>的乘法口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ectangle 51"/>
          <p:cNvSpPr/>
          <p:nvPr/>
        </p:nvSpPr>
        <p:spPr>
          <a:xfrm>
            <a:off x="3071880" y="544212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51"/>
          <p:cNvSpPr/>
          <p:nvPr/>
        </p:nvSpPr>
        <p:spPr>
          <a:xfrm>
            <a:off x="3929040" y="544212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51"/>
          <p:cNvSpPr/>
          <p:nvPr/>
        </p:nvSpPr>
        <p:spPr>
          <a:xfrm>
            <a:off x="4786200" y="544212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51"/>
          <p:cNvSpPr/>
          <p:nvPr/>
        </p:nvSpPr>
        <p:spPr>
          <a:xfrm>
            <a:off x="5643720" y="544212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51"/>
          <p:cNvSpPr/>
          <p:nvPr/>
        </p:nvSpPr>
        <p:spPr>
          <a:xfrm>
            <a:off x="6500880" y="544212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tangle 51"/>
          <p:cNvSpPr/>
          <p:nvPr/>
        </p:nvSpPr>
        <p:spPr>
          <a:xfrm>
            <a:off x="7358040" y="544212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八边形 12"/>
          <p:cNvSpPr/>
          <p:nvPr/>
        </p:nvSpPr>
        <p:spPr>
          <a:xfrm>
            <a:off x="601560" y="1003320"/>
            <a:ext cx="52236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圆角矩形 1"/>
          <p:cNvSpPr/>
          <p:nvPr/>
        </p:nvSpPr>
        <p:spPr>
          <a:xfrm>
            <a:off x="3500280" y="785880"/>
            <a:ext cx="2000520" cy="5072040"/>
          </a:xfrm>
          <a:custGeom>
            <a:avLst/>
            <a:gdLst>
              <a:gd name="textAreaLeft" fmla="*/ 97560 w 2000520"/>
              <a:gd name="textAreaRight" fmla="*/ 1902960 w 2000520"/>
              <a:gd name="textAreaTop" fmla="*/ 97560 h 5072040"/>
              <a:gd name="textAreaBottom" fmla="*/ 4974480 h 5072040"/>
            </a:gdLst>
            <a:ahLst/>
            <a:rect l="textAreaLeft" t="textAreaTop" r="textAreaRight" b="textAreaBottom"/>
            <a:pathLst>
              <a:path w="21600" h="54758">
                <a:moveTo>
                  <a:pt x="3600" y="0"/>
                </a:moveTo>
                <a:arcTo wR="3600" hR="3600" stAng="16200000" swAng="-5400000"/>
                <a:lnTo>
                  <a:pt x="0" y="51158"/>
                </a:lnTo>
                <a:arcTo wR="3600" hR="3600" stAng="10800000" swAng="-5400000"/>
                <a:lnTo>
                  <a:pt x="18000" y="547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9999"/>
          </a:solidFill>
          <a:ln w="1260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51"/>
          <p:cNvSpPr/>
          <p:nvPr/>
        </p:nvSpPr>
        <p:spPr>
          <a:xfrm>
            <a:off x="2714760" y="285768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51"/>
          <p:cNvSpPr/>
          <p:nvPr/>
        </p:nvSpPr>
        <p:spPr>
          <a:xfrm>
            <a:off x="2714760" y="231444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51"/>
          <p:cNvSpPr/>
          <p:nvPr/>
        </p:nvSpPr>
        <p:spPr>
          <a:xfrm>
            <a:off x="2714760" y="167148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51"/>
          <p:cNvSpPr/>
          <p:nvPr/>
        </p:nvSpPr>
        <p:spPr>
          <a:xfrm>
            <a:off x="4429080" y="1671480"/>
            <a:ext cx="9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十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51"/>
          <p:cNvSpPr/>
          <p:nvPr/>
        </p:nvSpPr>
        <p:spPr>
          <a:xfrm>
            <a:off x="4286160" y="2314440"/>
            <a:ext cx="10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二十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51"/>
          <p:cNvSpPr/>
          <p:nvPr/>
        </p:nvSpPr>
        <p:spPr>
          <a:xfrm>
            <a:off x="4286160" y="2814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三十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51"/>
          <p:cNvSpPr/>
          <p:nvPr/>
        </p:nvSpPr>
        <p:spPr>
          <a:xfrm>
            <a:off x="2786040" y="107172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组合 78"/>
          <p:cNvGrpSpPr/>
          <p:nvPr/>
        </p:nvGrpSpPr>
        <p:grpSpPr>
          <a:xfrm>
            <a:off x="1857240" y="1643040"/>
            <a:ext cx="5500800" cy="500040"/>
            <a:chOff x="1857240" y="1643040"/>
            <a:chExt cx="5500800" cy="500040"/>
          </a:xfrm>
        </p:grpSpPr>
        <p:sp>
          <p:nvSpPr>
            <p:cNvPr id="1145" name="TextBox 46"/>
            <p:cNvSpPr/>
            <p:nvPr/>
          </p:nvSpPr>
          <p:spPr>
            <a:xfrm>
              <a:off x="3500280" y="1643040"/>
              <a:ext cx="2143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二八（    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TextBox 44"/>
            <p:cNvSpPr/>
            <p:nvPr/>
          </p:nvSpPr>
          <p:spPr>
            <a:xfrm>
              <a:off x="1857240" y="1643040"/>
              <a:ext cx="1571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2×8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TextBox 48"/>
            <p:cNvSpPr/>
            <p:nvPr/>
          </p:nvSpPr>
          <p:spPr>
            <a:xfrm>
              <a:off x="5786280" y="1643040"/>
              <a:ext cx="1571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8×2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矩形 13"/>
            <p:cNvSpPr/>
            <p:nvPr/>
          </p:nvSpPr>
          <p:spPr>
            <a:xfrm>
              <a:off x="2643120" y="1643040"/>
              <a:ext cx="57132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矩形 14"/>
            <p:cNvSpPr/>
            <p:nvPr/>
          </p:nvSpPr>
          <p:spPr>
            <a:xfrm>
              <a:off x="6572160" y="1643040"/>
              <a:ext cx="57132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0" name="Rectangle 51"/>
          <p:cNvSpPr/>
          <p:nvPr/>
        </p:nvSpPr>
        <p:spPr>
          <a:xfrm>
            <a:off x="6643800" y="285768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51"/>
          <p:cNvSpPr/>
          <p:nvPr/>
        </p:nvSpPr>
        <p:spPr>
          <a:xfrm>
            <a:off x="6643800" y="231444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51"/>
          <p:cNvSpPr/>
          <p:nvPr/>
        </p:nvSpPr>
        <p:spPr>
          <a:xfrm>
            <a:off x="6643800" y="171468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组合 79"/>
          <p:cNvGrpSpPr/>
          <p:nvPr/>
        </p:nvGrpSpPr>
        <p:grpSpPr>
          <a:xfrm>
            <a:off x="1857240" y="2286000"/>
            <a:ext cx="5286600" cy="500040"/>
            <a:chOff x="1857240" y="2286000"/>
            <a:chExt cx="5286600" cy="500040"/>
          </a:xfrm>
        </p:grpSpPr>
        <p:sp>
          <p:nvSpPr>
            <p:cNvPr id="1154" name="TextBox 31"/>
            <p:cNvSpPr/>
            <p:nvPr/>
          </p:nvSpPr>
          <p:spPr>
            <a:xfrm>
              <a:off x="3500280" y="2286000"/>
              <a:ext cx="2143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三八（    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TextBox 34"/>
            <p:cNvSpPr/>
            <p:nvPr/>
          </p:nvSpPr>
          <p:spPr>
            <a:xfrm>
              <a:off x="1857240" y="2286000"/>
              <a:ext cx="1285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3×8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TextBox 32"/>
            <p:cNvSpPr/>
            <p:nvPr/>
          </p:nvSpPr>
          <p:spPr>
            <a:xfrm>
              <a:off x="5786640" y="2307960"/>
              <a:ext cx="1285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8×3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矩形 22"/>
            <p:cNvSpPr/>
            <p:nvPr/>
          </p:nvSpPr>
          <p:spPr>
            <a:xfrm>
              <a:off x="2643120" y="2286000"/>
              <a:ext cx="57132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矩形 23"/>
            <p:cNvSpPr/>
            <p:nvPr/>
          </p:nvSpPr>
          <p:spPr>
            <a:xfrm>
              <a:off x="6572520" y="2286000"/>
              <a:ext cx="57132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9" name="Rectangle 51"/>
          <p:cNvSpPr/>
          <p:nvPr/>
        </p:nvSpPr>
        <p:spPr>
          <a:xfrm>
            <a:off x="6715080" y="107172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组合 77"/>
          <p:cNvGrpSpPr/>
          <p:nvPr/>
        </p:nvGrpSpPr>
        <p:grpSpPr>
          <a:xfrm>
            <a:off x="1857240" y="1071720"/>
            <a:ext cx="5286600" cy="500040"/>
            <a:chOff x="1857240" y="1071720"/>
            <a:chExt cx="5286600" cy="500040"/>
          </a:xfrm>
        </p:grpSpPr>
        <p:sp>
          <p:nvSpPr>
            <p:cNvPr id="1161" name="TextBox 43"/>
            <p:cNvSpPr/>
            <p:nvPr/>
          </p:nvSpPr>
          <p:spPr>
            <a:xfrm>
              <a:off x="1857240" y="1071720"/>
              <a:ext cx="1285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1×8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TextBox 45"/>
            <p:cNvSpPr/>
            <p:nvPr/>
          </p:nvSpPr>
          <p:spPr>
            <a:xfrm>
              <a:off x="3500280" y="1143000"/>
              <a:ext cx="1571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一八得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TextBox 47"/>
            <p:cNvSpPr/>
            <p:nvPr/>
          </p:nvSpPr>
          <p:spPr>
            <a:xfrm>
              <a:off x="5786640" y="1071720"/>
              <a:ext cx="1285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8×1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矩形 29"/>
            <p:cNvSpPr/>
            <p:nvPr/>
          </p:nvSpPr>
          <p:spPr>
            <a:xfrm>
              <a:off x="2643120" y="1071720"/>
              <a:ext cx="57132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矩形 30"/>
            <p:cNvSpPr/>
            <p:nvPr/>
          </p:nvSpPr>
          <p:spPr>
            <a:xfrm>
              <a:off x="6572520" y="1071720"/>
              <a:ext cx="57132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组合 80"/>
          <p:cNvGrpSpPr/>
          <p:nvPr/>
        </p:nvGrpSpPr>
        <p:grpSpPr>
          <a:xfrm>
            <a:off x="1857240" y="2786040"/>
            <a:ext cx="5286600" cy="571680"/>
            <a:chOff x="1857240" y="2786040"/>
            <a:chExt cx="5286600" cy="571680"/>
          </a:xfrm>
        </p:grpSpPr>
        <p:sp>
          <p:nvSpPr>
            <p:cNvPr id="1167" name="TextBox 64"/>
            <p:cNvSpPr/>
            <p:nvPr/>
          </p:nvSpPr>
          <p:spPr>
            <a:xfrm>
              <a:off x="3500280" y="2786040"/>
              <a:ext cx="2143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四八（ 　 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TextBox 65"/>
            <p:cNvSpPr/>
            <p:nvPr/>
          </p:nvSpPr>
          <p:spPr>
            <a:xfrm>
              <a:off x="1857240" y="2857320"/>
              <a:ext cx="1285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4×8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矩形 34"/>
            <p:cNvSpPr/>
            <p:nvPr/>
          </p:nvSpPr>
          <p:spPr>
            <a:xfrm>
              <a:off x="2643120" y="2857320"/>
              <a:ext cx="571320" cy="5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矩形 35"/>
            <p:cNvSpPr/>
            <p:nvPr/>
          </p:nvSpPr>
          <p:spPr>
            <a:xfrm>
              <a:off x="6572520" y="2857320"/>
              <a:ext cx="571320" cy="5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TextBox 65"/>
            <p:cNvSpPr/>
            <p:nvPr/>
          </p:nvSpPr>
          <p:spPr>
            <a:xfrm>
              <a:off x="5786640" y="2857320"/>
              <a:ext cx="1285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8×4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2" name="Rectangle 51"/>
          <p:cNvSpPr/>
          <p:nvPr/>
        </p:nvSpPr>
        <p:spPr>
          <a:xfrm>
            <a:off x="2714760" y="342900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Rectangle 51"/>
          <p:cNvSpPr/>
          <p:nvPr/>
        </p:nvSpPr>
        <p:spPr>
          <a:xfrm>
            <a:off x="6643800" y="342900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4" name="组合 81"/>
          <p:cNvGrpSpPr/>
          <p:nvPr/>
        </p:nvGrpSpPr>
        <p:grpSpPr>
          <a:xfrm>
            <a:off x="1857240" y="3357720"/>
            <a:ext cx="5286600" cy="571320"/>
            <a:chOff x="1857240" y="3357720"/>
            <a:chExt cx="5286600" cy="571320"/>
          </a:xfrm>
        </p:grpSpPr>
        <p:sp>
          <p:nvSpPr>
            <p:cNvPr id="1175" name="TextBox 64"/>
            <p:cNvSpPr/>
            <p:nvPr/>
          </p:nvSpPr>
          <p:spPr>
            <a:xfrm>
              <a:off x="3500280" y="3357720"/>
              <a:ext cx="2143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五八（ 　 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TextBox 65"/>
            <p:cNvSpPr/>
            <p:nvPr/>
          </p:nvSpPr>
          <p:spPr>
            <a:xfrm>
              <a:off x="1857240" y="3429000"/>
              <a:ext cx="1285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5×8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矩形 42"/>
            <p:cNvSpPr/>
            <p:nvPr/>
          </p:nvSpPr>
          <p:spPr>
            <a:xfrm>
              <a:off x="2643120" y="3429000"/>
              <a:ext cx="57132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矩形 43"/>
            <p:cNvSpPr/>
            <p:nvPr/>
          </p:nvSpPr>
          <p:spPr>
            <a:xfrm>
              <a:off x="6572520" y="3429000"/>
              <a:ext cx="57132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TextBox 65"/>
            <p:cNvSpPr/>
            <p:nvPr/>
          </p:nvSpPr>
          <p:spPr>
            <a:xfrm>
              <a:off x="5786640" y="3429000"/>
              <a:ext cx="1285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8×5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0" name="Rectangle 51"/>
          <p:cNvSpPr/>
          <p:nvPr/>
        </p:nvSpPr>
        <p:spPr>
          <a:xfrm>
            <a:off x="2714760" y="400068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Rectangle 51"/>
          <p:cNvSpPr/>
          <p:nvPr/>
        </p:nvSpPr>
        <p:spPr>
          <a:xfrm>
            <a:off x="6643800" y="400068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2" name="组合 82"/>
          <p:cNvGrpSpPr/>
          <p:nvPr/>
        </p:nvGrpSpPr>
        <p:grpSpPr>
          <a:xfrm>
            <a:off x="1857240" y="4000680"/>
            <a:ext cx="5286600" cy="500040"/>
            <a:chOff x="1857240" y="4000680"/>
            <a:chExt cx="5286600" cy="500040"/>
          </a:xfrm>
        </p:grpSpPr>
        <p:sp>
          <p:nvSpPr>
            <p:cNvPr id="1183" name="TextBox 64"/>
            <p:cNvSpPr/>
            <p:nvPr/>
          </p:nvSpPr>
          <p:spPr>
            <a:xfrm>
              <a:off x="3500280" y="4000680"/>
              <a:ext cx="2143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六八（ 　 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TextBox 65"/>
            <p:cNvSpPr/>
            <p:nvPr/>
          </p:nvSpPr>
          <p:spPr>
            <a:xfrm>
              <a:off x="1857240" y="4000680"/>
              <a:ext cx="1285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6×8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矩形 49"/>
            <p:cNvSpPr/>
            <p:nvPr/>
          </p:nvSpPr>
          <p:spPr>
            <a:xfrm>
              <a:off x="2643120" y="4000680"/>
              <a:ext cx="57132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矩形 50"/>
            <p:cNvSpPr/>
            <p:nvPr/>
          </p:nvSpPr>
          <p:spPr>
            <a:xfrm>
              <a:off x="6572520" y="4000680"/>
              <a:ext cx="57132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TextBox 65"/>
            <p:cNvSpPr/>
            <p:nvPr/>
          </p:nvSpPr>
          <p:spPr>
            <a:xfrm>
              <a:off x="5786640" y="4000680"/>
              <a:ext cx="1285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8×6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8" name="Rectangle 51"/>
          <p:cNvSpPr/>
          <p:nvPr/>
        </p:nvSpPr>
        <p:spPr>
          <a:xfrm>
            <a:off x="4429080" y="3386160"/>
            <a:ext cx="9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四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51"/>
          <p:cNvSpPr/>
          <p:nvPr/>
        </p:nvSpPr>
        <p:spPr>
          <a:xfrm>
            <a:off x="4286160" y="4029120"/>
            <a:ext cx="10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四十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51"/>
          <p:cNvSpPr/>
          <p:nvPr/>
        </p:nvSpPr>
        <p:spPr>
          <a:xfrm>
            <a:off x="2714760" y="464328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51"/>
          <p:cNvSpPr/>
          <p:nvPr/>
        </p:nvSpPr>
        <p:spPr>
          <a:xfrm>
            <a:off x="6643800" y="464328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2" name="组合 82"/>
          <p:cNvGrpSpPr/>
          <p:nvPr/>
        </p:nvGrpSpPr>
        <p:grpSpPr>
          <a:xfrm>
            <a:off x="1857240" y="4643280"/>
            <a:ext cx="5286600" cy="500400"/>
            <a:chOff x="1857240" y="4643280"/>
            <a:chExt cx="5286600" cy="500400"/>
          </a:xfrm>
        </p:grpSpPr>
        <p:sp>
          <p:nvSpPr>
            <p:cNvPr id="1193" name="TextBox 64"/>
            <p:cNvSpPr/>
            <p:nvPr/>
          </p:nvSpPr>
          <p:spPr>
            <a:xfrm>
              <a:off x="3500280" y="4643280"/>
              <a:ext cx="2143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七八（ 　 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TextBox 65"/>
            <p:cNvSpPr/>
            <p:nvPr/>
          </p:nvSpPr>
          <p:spPr>
            <a:xfrm>
              <a:off x="1857240" y="4643280"/>
              <a:ext cx="1285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7×8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矩形 59"/>
            <p:cNvSpPr/>
            <p:nvPr/>
          </p:nvSpPr>
          <p:spPr>
            <a:xfrm>
              <a:off x="2643120" y="4643280"/>
              <a:ext cx="571320" cy="5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矩形 60"/>
            <p:cNvSpPr/>
            <p:nvPr/>
          </p:nvSpPr>
          <p:spPr>
            <a:xfrm>
              <a:off x="6572520" y="4643280"/>
              <a:ext cx="571320" cy="5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TextBox 65"/>
            <p:cNvSpPr/>
            <p:nvPr/>
          </p:nvSpPr>
          <p:spPr>
            <a:xfrm>
              <a:off x="5786640" y="4643280"/>
              <a:ext cx="1285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8×7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8" name="Rectangle 51"/>
          <p:cNvSpPr/>
          <p:nvPr/>
        </p:nvSpPr>
        <p:spPr>
          <a:xfrm>
            <a:off x="4286160" y="4672080"/>
            <a:ext cx="10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五十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ectangle 51"/>
          <p:cNvSpPr/>
          <p:nvPr/>
        </p:nvSpPr>
        <p:spPr>
          <a:xfrm>
            <a:off x="2714760" y="528624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Rectangle 51"/>
          <p:cNvSpPr/>
          <p:nvPr/>
        </p:nvSpPr>
        <p:spPr>
          <a:xfrm>
            <a:off x="6643800" y="528624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1" name="组合 82"/>
          <p:cNvGrpSpPr/>
          <p:nvPr/>
        </p:nvGrpSpPr>
        <p:grpSpPr>
          <a:xfrm>
            <a:off x="1857240" y="5286240"/>
            <a:ext cx="5286600" cy="500040"/>
            <a:chOff x="1857240" y="5286240"/>
            <a:chExt cx="5286600" cy="500040"/>
          </a:xfrm>
        </p:grpSpPr>
        <p:sp>
          <p:nvSpPr>
            <p:cNvPr id="1202" name="TextBox 64"/>
            <p:cNvSpPr/>
            <p:nvPr/>
          </p:nvSpPr>
          <p:spPr>
            <a:xfrm>
              <a:off x="3500280" y="5286240"/>
              <a:ext cx="2143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八八（ 　 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TextBox 65"/>
            <p:cNvSpPr/>
            <p:nvPr/>
          </p:nvSpPr>
          <p:spPr>
            <a:xfrm>
              <a:off x="1857240" y="5286240"/>
              <a:ext cx="1285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8×8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矩形 68"/>
            <p:cNvSpPr/>
            <p:nvPr/>
          </p:nvSpPr>
          <p:spPr>
            <a:xfrm>
              <a:off x="2643120" y="5286240"/>
              <a:ext cx="57132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矩形 69"/>
            <p:cNvSpPr/>
            <p:nvPr/>
          </p:nvSpPr>
          <p:spPr>
            <a:xfrm>
              <a:off x="6572520" y="5286240"/>
              <a:ext cx="57132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TextBox 65"/>
            <p:cNvSpPr/>
            <p:nvPr/>
          </p:nvSpPr>
          <p:spPr>
            <a:xfrm>
              <a:off x="5786640" y="5286240"/>
              <a:ext cx="1285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8×8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7" name="Rectangle 51"/>
          <p:cNvSpPr/>
          <p:nvPr/>
        </p:nvSpPr>
        <p:spPr>
          <a:xfrm>
            <a:off x="4286160" y="5315040"/>
            <a:ext cx="10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六十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8" name="组合 2"/>
          <p:cNvGrpSpPr/>
          <p:nvPr/>
        </p:nvGrpSpPr>
        <p:grpSpPr>
          <a:xfrm>
            <a:off x="20520" y="79200"/>
            <a:ext cx="3481560" cy="527400"/>
            <a:chOff x="20520" y="79200"/>
            <a:chExt cx="3481560" cy="527400"/>
          </a:xfrm>
        </p:grpSpPr>
        <p:pic>
          <p:nvPicPr>
            <p:cNvPr id="1209" name="圆角矩形 44" descr=""/>
            <p:cNvPicPr/>
            <p:nvPr/>
          </p:nvPicPr>
          <p:blipFill>
            <a:blip r:embed="rId1"/>
            <a:stretch/>
          </p:blipFill>
          <p:spPr>
            <a:xfrm>
              <a:off x="183960" y="79200"/>
              <a:ext cx="3318120" cy="527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10" name="组合 4"/>
            <p:cNvGrpSpPr/>
            <p:nvPr/>
          </p:nvGrpSpPr>
          <p:grpSpPr>
            <a:xfrm>
              <a:off x="20520" y="174240"/>
              <a:ext cx="462240" cy="275040"/>
              <a:chOff x="20520" y="174240"/>
              <a:chExt cx="462240" cy="275040"/>
            </a:xfrm>
          </p:grpSpPr>
          <p:sp>
            <p:nvSpPr>
              <p:cNvPr id="1211" name="椭圆 51"/>
              <p:cNvSpPr/>
              <p:nvPr/>
            </p:nvSpPr>
            <p:spPr>
              <a:xfrm rot="16200000">
                <a:off x="269640" y="337320"/>
                <a:ext cx="10080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2" name="椭圆 52" descr=""/>
              <p:cNvPicPr/>
              <p:nvPr/>
            </p:nvPicPr>
            <p:blipFill>
              <a:blip r:embed="rId2"/>
              <a:stretch/>
            </p:blipFill>
            <p:spPr>
              <a:xfrm>
                <a:off x="266040" y="295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椭圆 57"/>
              <p:cNvSpPr/>
              <p:nvPr/>
            </p:nvSpPr>
            <p:spPr>
              <a:xfrm rot="16200000">
                <a:off x="269640" y="208440"/>
                <a:ext cx="10080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4" name="椭圆 58" descr=""/>
              <p:cNvPicPr/>
              <p:nvPr/>
            </p:nvPicPr>
            <p:blipFill>
              <a:blip r:embed="rId3"/>
              <a:stretch/>
            </p:blipFill>
            <p:spPr>
              <a:xfrm>
                <a:off x="266040" y="1879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5" name="圆角矩形 61" descr=""/>
              <p:cNvPicPr/>
              <p:nvPr/>
            </p:nvPicPr>
            <p:blipFill>
              <a:blip r:embed="rId4"/>
              <a:stretch/>
            </p:blipFill>
            <p:spPr>
              <a:xfrm>
                <a:off x="20520" y="31068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6" name="圆角矩形 62" descr=""/>
              <p:cNvPicPr/>
              <p:nvPr/>
            </p:nvPicPr>
            <p:blipFill>
              <a:blip r:embed="rId5"/>
              <a:stretch/>
            </p:blipFill>
            <p:spPr>
              <a:xfrm>
                <a:off x="20520" y="28368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7" name="圆角矩形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20520" y="20088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8" name="圆角矩形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20520" y="17424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9" name="组合 2"/>
          <p:cNvGrpSpPr/>
          <p:nvPr/>
        </p:nvGrpSpPr>
        <p:grpSpPr>
          <a:xfrm>
            <a:off x="20520" y="79200"/>
            <a:ext cx="2922840" cy="527400"/>
            <a:chOff x="20520" y="79200"/>
            <a:chExt cx="2922840" cy="527400"/>
          </a:xfrm>
        </p:grpSpPr>
        <p:pic>
          <p:nvPicPr>
            <p:cNvPr id="1220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3360" y="79200"/>
              <a:ext cx="2790000" cy="527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1" name="组合 4"/>
            <p:cNvGrpSpPr/>
            <p:nvPr/>
          </p:nvGrpSpPr>
          <p:grpSpPr>
            <a:xfrm>
              <a:off x="20520" y="174240"/>
              <a:ext cx="386280" cy="274680"/>
              <a:chOff x="20520" y="174240"/>
              <a:chExt cx="386280" cy="274680"/>
            </a:xfrm>
          </p:grpSpPr>
          <p:sp>
            <p:nvSpPr>
              <p:cNvPr id="1222" name="椭圆 35"/>
              <p:cNvSpPr/>
              <p:nvPr/>
            </p:nvSpPr>
            <p:spPr>
              <a:xfrm rot="16200000">
                <a:off x="254160" y="342000"/>
                <a:ext cx="97560" cy="115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3" name="椭圆 36" descr=""/>
              <p:cNvPicPr/>
              <p:nvPr/>
            </p:nvPicPr>
            <p:blipFill>
              <a:blip r:embed="rId2"/>
              <a:stretch/>
            </p:blipFill>
            <p:spPr>
              <a:xfrm>
                <a:off x="202320" y="313920"/>
                <a:ext cx="204480" cy="12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4" name="椭圆 37"/>
              <p:cNvSpPr/>
              <p:nvPr/>
            </p:nvSpPr>
            <p:spPr>
              <a:xfrm rot="16200000">
                <a:off x="254160" y="217080"/>
                <a:ext cx="97560" cy="115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5" name="椭圆 40" descr=""/>
              <p:cNvPicPr/>
              <p:nvPr/>
            </p:nvPicPr>
            <p:blipFill>
              <a:blip r:embed="rId3"/>
              <a:stretch/>
            </p:blipFill>
            <p:spPr>
              <a:xfrm>
                <a:off x="202320" y="190080"/>
                <a:ext cx="204480" cy="12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6" name="圆角矩形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20520" y="331560"/>
                <a:ext cx="314640" cy="109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7" name="圆角矩形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20520" y="300600"/>
                <a:ext cx="314640" cy="109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8" name="圆角矩形 45" descr=""/>
              <p:cNvPicPr/>
              <p:nvPr/>
            </p:nvPicPr>
            <p:blipFill>
              <a:blip r:embed="rId6"/>
              <a:stretch/>
            </p:blipFill>
            <p:spPr>
              <a:xfrm>
                <a:off x="20520" y="205200"/>
                <a:ext cx="314640" cy="109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9" name="圆角矩形 48" descr=""/>
              <p:cNvPicPr/>
              <p:nvPr/>
            </p:nvPicPr>
            <p:blipFill>
              <a:blip r:embed="rId7"/>
              <a:stretch/>
            </p:blipFill>
            <p:spPr>
              <a:xfrm>
                <a:off x="20520" y="174240"/>
                <a:ext cx="314640" cy="10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30" name="Rectangle 64"/>
          <p:cNvSpPr/>
          <p:nvPr/>
        </p:nvSpPr>
        <p:spPr>
          <a:xfrm>
            <a:off x="71280" y="88920"/>
            <a:ext cx="32990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三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矩形 1"/>
          <p:cNvSpPr/>
          <p:nvPr/>
        </p:nvSpPr>
        <p:spPr>
          <a:xfrm>
            <a:off x="138960" y="1073160"/>
            <a:ext cx="52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矩形 4"/>
          <p:cNvSpPr/>
          <p:nvPr/>
        </p:nvSpPr>
        <p:spPr>
          <a:xfrm>
            <a:off x="732600" y="1095480"/>
            <a:ext cx="1930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  <a:ea typeface="宋体"/>
              </a:rPr>
              <a:t>五八（         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矩形 5"/>
          <p:cNvSpPr/>
          <p:nvPr/>
        </p:nvSpPr>
        <p:spPr>
          <a:xfrm>
            <a:off x="3872520" y="1095480"/>
            <a:ext cx="1847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  <a:ea typeface="宋体"/>
              </a:rPr>
              <a:t>二八（        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矩形 6"/>
          <p:cNvSpPr/>
          <p:nvPr/>
        </p:nvSpPr>
        <p:spPr>
          <a:xfrm>
            <a:off x="6612840" y="1095480"/>
            <a:ext cx="2012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  <a:ea typeface="宋体"/>
              </a:rPr>
              <a:t>八八（          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矩形 7"/>
          <p:cNvSpPr/>
          <p:nvPr/>
        </p:nvSpPr>
        <p:spPr>
          <a:xfrm>
            <a:off x="689400" y="1930320"/>
            <a:ext cx="2229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  <a:ea typeface="宋体"/>
              </a:rPr>
              <a:t>（           ）八二十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矩形 8"/>
          <p:cNvSpPr/>
          <p:nvPr/>
        </p:nvSpPr>
        <p:spPr>
          <a:xfrm>
            <a:off x="3761280" y="1930320"/>
            <a:ext cx="2229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  <a:ea typeface="宋体"/>
              </a:rPr>
              <a:t>（           ）八四十八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矩形 9"/>
          <p:cNvSpPr/>
          <p:nvPr/>
        </p:nvSpPr>
        <p:spPr>
          <a:xfrm>
            <a:off x="6761880" y="1930320"/>
            <a:ext cx="2229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  <a:ea typeface="宋体"/>
              </a:rPr>
              <a:t>（           ）八五十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51"/>
          <p:cNvSpPr/>
          <p:nvPr/>
        </p:nvSpPr>
        <p:spPr>
          <a:xfrm>
            <a:off x="1496880" y="1095480"/>
            <a:ext cx="92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四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51"/>
          <p:cNvSpPr/>
          <p:nvPr/>
        </p:nvSpPr>
        <p:spPr>
          <a:xfrm>
            <a:off x="4572000" y="1095480"/>
            <a:ext cx="92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十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51"/>
          <p:cNvSpPr/>
          <p:nvPr/>
        </p:nvSpPr>
        <p:spPr>
          <a:xfrm>
            <a:off x="7358040" y="1095480"/>
            <a:ext cx="1143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六十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51"/>
          <p:cNvSpPr/>
          <p:nvPr/>
        </p:nvSpPr>
        <p:spPr>
          <a:xfrm>
            <a:off x="857160" y="188136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Rectangle 51"/>
          <p:cNvSpPr/>
          <p:nvPr/>
        </p:nvSpPr>
        <p:spPr>
          <a:xfrm>
            <a:off x="3929040" y="193032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Rectangle 51"/>
          <p:cNvSpPr/>
          <p:nvPr/>
        </p:nvSpPr>
        <p:spPr>
          <a:xfrm>
            <a:off x="6858000" y="193032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矩形 1"/>
          <p:cNvSpPr/>
          <p:nvPr/>
        </p:nvSpPr>
        <p:spPr>
          <a:xfrm>
            <a:off x="71280" y="2854440"/>
            <a:ext cx="835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. 8×3=      4×8=      8×6=      7×8=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矩形 1"/>
          <p:cNvSpPr/>
          <p:nvPr/>
        </p:nvSpPr>
        <p:spPr>
          <a:xfrm>
            <a:off x="174600" y="4005360"/>
            <a:ext cx="76438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5×8=      8×2=      3×8=        8×8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说一说计算每一题用的是哪句口诀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Rectangle 51"/>
          <p:cNvSpPr/>
          <p:nvPr/>
        </p:nvSpPr>
        <p:spPr>
          <a:xfrm>
            <a:off x="1519200" y="285444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Rectangle 51"/>
          <p:cNvSpPr/>
          <p:nvPr/>
        </p:nvSpPr>
        <p:spPr>
          <a:xfrm>
            <a:off x="3211560" y="285444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Rectangle 51"/>
          <p:cNvSpPr/>
          <p:nvPr/>
        </p:nvSpPr>
        <p:spPr>
          <a:xfrm>
            <a:off x="4929120" y="283860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Rectangle 51"/>
          <p:cNvSpPr/>
          <p:nvPr/>
        </p:nvSpPr>
        <p:spPr>
          <a:xfrm>
            <a:off x="6670800" y="290196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Rectangle 51"/>
          <p:cNvSpPr/>
          <p:nvPr/>
        </p:nvSpPr>
        <p:spPr>
          <a:xfrm>
            <a:off x="1571760" y="400680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Rectangle 51"/>
          <p:cNvSpPr/>
          <p:nvPr/>
        </p:nvSpPr>
        <p:spPr>
          <a:xfrm>
            <a:off x="3211560" y="400680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Rectangle 51"/>
          <p:cNvSpPr/>
          <p:nvPr/>
        </p:nvSpPr>
        <p:spPr>
          <a:xfrm>
            <a:off x="5037120" y="400680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51"/>
          <p:cNvSpPr/>
          <p:nvPr/>
        </p:nvSpPr>
        <p:spPr>
          <a:xfrm>
            <a:off x="7074000" y="400680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Rectangle 51"/>
          <p:cNvSpPr/>
          <p:nvPr/>
        </p:nvSpPr>
        <p:spPr>
          <a:xfrm>
            <a:off x="573120" y="338148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三八二十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ectangle 51"/>
          <p:cNvSpPr/>
          <p:nvPr/>
        </p:nvSpPr>
        <p:spPr>
          <a:xfrm>
            <a:off x="2287440" y="3381480"/>
            <a:ext cx="20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四八三十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Rectangle 51"/>
          <p:cNvSpPr/>
          <p:nvPr/>
        </p:nvSpPr>
        <p:spPr>
          <a:xfrm>
            <a:off x="4002120" y="338148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六八四十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51"/>
          <p:cNvSpPr/>
          <p:nvPr/>
        </p:nvSpPr>
        <p:spPr>
          <a:xfrm>
            <a:off x="5786280" y="3381480"/>
            <a:ext cx="20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七八五十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Rectangle 51"/>
          <p:cNvSpPr/>
          <p:nvPr/>
        </p:nvSpPr>
        <p:spPr>
          <a:xfrm>
            <a:off x="644400" y="443556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五八四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Rectangle 51"/>
          <p:cNvSpPr/>
          <p:nvPr/>
        </p:nvSpPr>
        <p:spPr>
          <a:xfrm>
            <a:off x="2430360" y="44355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二八十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Rectangle 51"/>
          <p:cNvSpPr/>
          <p:nvPr/>
        </p:nvSpPr>
        <p:spPr>
          <a:xfrm>
            <a:off x="4216320" y="443556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三八二十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51"/>
          <p:cNvSpPr/>
          <p:nvPr/>
        </p:nvSpPr>
        <p:spPr>
          <a:xfrm>
            <a:off x="6146640" y="4435560"/>
            <a:ext cx="20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八八六十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2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63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64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265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66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7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6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1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2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73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Box 32"/>
          <p:cNvSpPr/>
          <p:nvPr/>
        </p:nvSpPr>
        <p:spPr>
          <a:xfrm>
            <a:off x="420840" y="933480"/>
            <a:ext cx="84484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的乘法口诀有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句，每相邻两句口诀的积相差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的乘法口诀，除了最后一句，每一句口诀都可以列出两个乘法算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 txBox="1"/>
          <p:nvPr/>
        </p:nvSpPr>
        <p:spPr>
          <a:xfrm>
            <a:off x="412920" y="98244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一、想一想，填一填 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1.  8×5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读作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(  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，表示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相加，还表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</a:rPr>
              <a:t>个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</a:rPr>
              <a:t>相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。口算这道题的口诀是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</a:rPr>
              <a:t>五八四十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用七八五十六写两道乘法算式是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</a:rPr>
              <a:t> ×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8=56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 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7=56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3. 8+8+8+8+8+8=48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改写成乘法算式是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6=48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比比谁大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5×8     8×4      8+8    8×8        6×6     6×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在    里填上“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+”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、“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-”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或“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×”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8     8=64      8    8=0     5    8=13    8    3=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6" name="组合 2"/>
          <p:cNvGrpSpPr/>
          <p:nvPr/>
        </p:nvGrpSpPr>
        <p:grpSpPr>
          <a:xfrm>
            <a:off x="20520" y="79200"/>
            <a:ext cx="3481560" cy="527400"/>
            <a:chOff x="20520" y="79200"/>
            <a:chExt cx="3481560" cy="527400"/>
          </a:xfrm>
        </p:grpSpPr>
        <p:pic>
          <p:nvPicPr>
            <p:cNvPr id="1277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83960" y="79200"/>
              <a:ext cx="3318120" cy="527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78" name="组合 4"/>
            <p:cNvGrpSpPr/>
            <p:nvPr/>
          </p:nvGrpSpPr>
          <p:grpSpPr>
            <a:xfrm>
              <a:off x="20520" y="174240"/>
              <a:ext cx="462240" cy="275040"/>
              <a:chOff x="20520" y="174240"/>
              <a:chExt cx="462240" cy="275040"/>
            </a:xfrm>
          </p:grpSpPr>
          <p:sp>
            <p:nvSpPr>
              <p:cNvPr id="1279" name="椭圆 35"/>
              <p:cNvSpPr/>
              <p:nvPr/>
            </p:nvSpPr>
            <p:spPr>
              <a:xfrm rot="16200000">
                <a:off x="269640" y="337320"/>
                <a:ext cx="10080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80" name="椭圆 36" descr=""/>
              <p:cNvPicPr/>
              <p:nvPr/>
            </p:nvPicPr>
            <p:blipFill>
              <a:blip r:embed="rId2"/>
              <a:stretch/>
            </p:blipFill>
            <p:spPr>
              <a:xfrm>
                <a:off x="266040" y="295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1" name="椭圆 37"/>
              <p:cNvSpPr/>
              <p:nvPr/>
            </p:nvSpPr>
            <p:spPr>
              <a:xfrm rot="16200000">
                <a:off x="269640" y="208440"/>
                <a:ext cx="10080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82" name="椭圆 40" descr=""/>
              <p:cNvPicPr/>
              <p:nvPr/>
            </p:nvPicPr>
            <p:blipFill>
              <a:blip r:embed="rId3"/>
              <a:stretch/>
            </p:blipFill>
            <p:spPr>
              <a:xfrm>
                <a:off x="266040" y="1879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3" name="圆角矩形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20520" y="31068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4" name="圆角矩形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20520" y="28368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5" name="圆角矩形 45" descr=""/>
              <p:cNvPicPr/>
              <p:nvPr/>
            </p:nvPicPr>
            <p:blipFill>
              <a:blip r:embed="rId6"/>
              <a:stretch/>
            </p:blipFill>
            <p:spPr>
              <a:xfrm>
                <a:off x="20520" y="20088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6" name="圆角矩形 48" descr=""/>
              <p:cNvPicPr/>
              <p:nvPr/>
            </p:nvPicPr>
            <p:blipFill>
              <a:blip r:embed="rId7"/>
              <a:stretch/>
            </p:blipFill>
            <p:spPr>
              <a:xfrm>
                <a:off x="20520" y="17424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87" name="Rectangle 64"/>
          <p:cNvSpPr/>
          <p:nvPr/>
        </p:nvSpPr>
        <p:spPr>
          <a:xfrm>
            <a:off x="646200" y="17640"/>
            <a:ext cx="1973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Oval 82514"/>
          <p:cNvSpPr/>
          <p:nvPr/>
        </p:nvSpPr>
        <p:spPr>
          <a:xfrm>
            <a:off x="1349280" y="4213080"/>
            <a:ext cx="271440" cy="29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Oval 82514"/>
          <p:cNvSpPr/>
          <p:nvPr/>
        </p:nvSpPr>
        <p:spPr>
          <a:xfrm>
            <a:off x="2978280" y="4213080"/>
            <a:ext cx="269640" cy="29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Oval 82514"/>
          <p:cNvSpPr/>
          <p:nvPr/>
        </p:nvSpPr>
        <p:spPr>
          <a:xfrm>
            <a:off x="4894200" y="4213080"/>
            <a:ext cx="271440" cy="29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Oval 82514"/>
          <p:cNvSpPr/>
          <p:nvPr/>
        </p:nvSpPr>
        <p:spPr>
          <a:xfrm>
            <a:off x="860400" y="5213520"/>
            <a:ext cx="270000" cy="293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Oval 82514"/>
          <p:cNvSpPr/>
          <p:nvPr/>
        </p:nvSpPr>
        <p:spPr>
          <a:xfrm>
            <a:off x="2222640" y="5213520"/>
            <a:ext cx="269640" cy="293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Oval 82514"/>
          <p:cNvSpPr/>
          <p:nvPr/>
        </p:nvSpPr>
        <p:spPr>
          <a:xfrm>
            <a:off x="3349800" y="5213520"/>
            <a:ext cx="271440" cy="293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Oval 82514"/>
          <p:cNvSpPr/>
          <p:nvPr/>
        </p:nvSpPr>
        <p:spPr>
          <a:xfrm>
            <a:off x="4543560" y="5213520"/>
            <a:ext cx="269640" cy="293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Oval 82514"/>
          <p:cNvSpPr/>
          <p:nvPr/>
        </p:nvSpPr>
        <p:spPr>
          <a:xfrm>
            <a:off x="987480" y="4702320"/>
            <a:ext cx="271440" cy="295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文本框 12"/>
          <p:cNvSpPr/>
          <p:nvPr/>
        </p:nvSpPr>
        <p:spPr>
          <a:xfrm>
            <a:off x="1289160" y="4178160"/>
            <a:ext cx="2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文本框 13"/>
          <p:cNvSpPr/>
          <p:nvPr/>
        </p:nvSpPr>
        <p:spPr>
          <a:xfrm>
            <a:off x="2892600" y="41734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文本框 14"/>
          <p:cNvSpPr/>
          <p:nvPr/>
        </p:nvSpPr>
        <p:spPr>
          <a:xfrm>
            <a:off x="4808520" y="41781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文本框 16"/>
          <p:cNvSpPr/>
          <p:nvPr/>
        </p:nvSpPr>
        <p:spPr>
          <a:xfrm>
            <a:off x="795240" y="5172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文本框 17"/>
          <p:cNvSpPr/>
          <p:nvPr/>
        </p:nvSpPr>
        <p:spPr>
          <a:xfrm>
            <a:off x="2160720" y="5178600"/>
            <a:ext cx="29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文本框 19"/>
          <p:cNvSpPr/>
          <p:nvPr/>
        </p:nvSpPr>
        <p:spPr>
          <a:xfrm>
            <a:off x="3317760" y="5086440"/>
            <a:ext cx="28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文本框 21"/>
          <p:cNvSpPr/>
          <p:nvPr/>
        </p:nvSpPr>
        <p:spPr>
          <a:xfrm>
            <a:off x="4473720" y="5181480"/>
            <a:ext cx="47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矩形 15"/>
          <p:cNvSpPr/>
          <p:nvPr/>
        </p:nvSpPr>
        <p:spPr>
          <a:xfrm>
            <a:off x="2055960" y="1728720"/>
            <a:ext cx="922320" cy="33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矩形 18"/>
          <p:cNvSpPr/>
          <p:nvPr/>
        </p:nvSpPr>
        <p:spPr>
          <a:xfrm>
            <a:off x="4052880" y="1728720"/>
            <a:ext cx="2937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矩形 20"/>
          <p:cNvSpPr/>
          <p:nvPr/>
        </p:nvSpPr>
        <p:spPr>
          <a:xfrm>
            <a:off x="4861080" y="1728720"/>
            <a:ext cx="2934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矩形 22"/>
          <p:cNvSpPr/>
          <p:nvPr/>
        </p:nvSpPr>
        <p:spPr>
          <a:xfrm>
            <a:off x="582480" y="2130480"/>
            <a:ext cx="11066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矩形 23"/>
          <p:cNvSpPr/>
          <p:nvPr/>
        </p:nvSpPr>
        <p:spPr>
          <a:xfrm>
            <a:off x="4737240" y="2109960"/>
            <a:ext cx="1158840" cy="39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矩形 24"/>
          <p:cNvSpPr/>
          <p:nvPr/>
        </p:nvSpPr>
        <p:spPr>
          <a:xfrm>
            <a:off x="4737240" y="2671920"/>
            <a:ext cx="1236600" cy="39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矩形 25"/>
          <p:cNvSpPr/>
          <p:nvPr/>
        </p:nvSpPr>
        <p:spPr>
          <a:xfrm>
            <a:off x="6705720" y="2671920"/>
            <a:ext cx="1171440" cy="39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矩形 26"/>
          <p:cNvSpPr/>
          <p:nvPr/>
        </p:nvSpPr>
        <p:spPr>
          <a:xfrm>
            <a:off x="5086440" y="3159000"/>
            <a:ext cx="12254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Rectangle 64"/>
          <p:cNvSpPr/>
          <p:nvPr/>
        </p:nvSpPr>
        <p:spPr>
          <a:xfrm>
            <a:off x="365040" y="92160"/>
            <a:ext cx="2873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五、课后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"/>
          <p:cNvSpPr txBox="1"/>
          <p:nvPr/>
        </p:nvSpPr>
        <p:spPr>
          <a:xfrm>
            <a:off x="412920" y="982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在（      ）里填出正确的答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只螃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条腿，是（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条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两只螃蟹（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16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条腿，是（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2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只螃蟹（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24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条腿，是（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3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只螃蟹（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32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条腿，（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4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8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五只螃蟹（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40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条腿，（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5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8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。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六只螃蟹（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48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条腿，（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6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8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七只螃蟹（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56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条腿，（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7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8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。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八只螃蟹（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64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条腿，（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8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8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3" name="组合 2"/>
          <p:cNvGrpSpPr/>
          <p:nvPr/>
        </p:nvGrpSpPr>
        <p:grpSpPr>
          <a:xfrm>
            <a:off x="20520" y="79200"/>
            <a:ext cx="3481560" cy="527400"/>
            <a:chOff x="20520" y="79200"/>
            <a:chExt cx="3481560" cy="527400"/>
          </a:xfrm>
        </p:grpSpPr>
        <p:pic>
          <p:nvPicPr>
            <p:cNvPr id="1314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83960" y="79200"/>
              <a:ext cx="3318120" cy="527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15" name="组合 4"/>
            <p:cNvGrpSpPr/>
            <p:nvPr/>
          </p:nvGrpSpPr>
          <p:grpSpPr>
            <a:xfrm>
              <a:off x="20520" y="174240"/>
              <a:ext cx="462240" cy="275040"/>
              <a:chOff x="20520" y="174240"/>
              <a:chExt cx="462240" cy="275040"/>
            </a:xfrm>
          </p:grpSpPr>
          <p:sp>
            <p:nvSpPr>
              <p:cNvPr id="1316" name="椭圆 35"/>
              <p:cNvSpPr/>
              <p:nvPr/>
            </p:nvSpPr>
            <p:spPr>
              <a:xfrm rot="16200000">
                <a:off x="269640" y="337320"/>
                <a:ext cx="10080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17" name="椭圆 36" descr=""/>
              <p:cNvPicPr/>
              <p:nvPr/>
            </p:nvPicPr>
            <p:blipFill>
              <a:blip r:embed="rId2"/>
              <a:stretch/>
            </p:blipFill>
            <p:spPr>
              <a:xfrm>
                <a:off x="266040" y="295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椭圆 37"/>
              <p:cNvSpPr/>
              <p:nvPr/>
            </p:nvSpPr>
            <p:spPr>
              <a:xfrm rot="16200000">
                <a:off x="269640" y="208440"/>
                <a:ext cx="10080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19" name="椭圆 40" descr=""/>
              <p:cNvPicPr/>
              <p:nvPr/>
            </p:nvPicPr>
            <p:blipFill>
              <a:blip r:embed="rId3"/>
              <a:stretch/>
            </p:blipFill>
            <p:spPr>
              <a:xfrm>
                <a:off x="266040" y="1879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0" name="圆角矩形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20520" y="31068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1" name="圆角矩形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20520" y="28368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2" name="圆角矩形 45" descr=""/>
              <p:cNvPicPr/>
              <p:nvPr/>
            </p:nvPicPr>
            <p:blipFill>
              <a:blip r:embed="rId6"/>
              <a:stretch/>
            </p:blipFill>
            <p:spPr>
              <a:xfrm>
                <a:off x="20520" y="20088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3" name="圆角矩形 48" descr=""/>
              <p:cNvPicPr/>
              <p:nvPr/>
            </p:nvPicPr>
            <p:blipFill>
              <a:blip r:embed="rId7"/>
              <a:stretch/>
            </p:blipFill>
            <p:spPr>
              <a:xfrm>
                <a:off x="20520" y="17424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24" name="Rectangle 64"/>
          <p:cNvSpPr/>
          <p:nvPr/>
        </p:nvSpPr>
        <p:spPr>
          <a:xfrm>
            <a:off x="646200" y="17640"/>
            <a:ext cx="1973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矩形 22"/>
          <p:cNvSpPr/>
          <p:nvPr/>
        </p:nvSpPr>
        <p:spPr>
          <a:xfrm>
            <a:off x="4406760" y="1549440"/>
            <a:ext cx="39528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1"/>
          <p:cNvSpPr/>
          <p:nvPr/>
        </p:nvSpPr>
        <p:spPr>
          <a:xfrm>
            <a:off x="2619360" y="1981080"/>
            <a:ext cx="39528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矩形 3"/>
          <p:cNvSpPr/>
          <p:nvPr/>
        </p:nvSpPr>
        <p:spPr>
          <a:xfrm>
            <a:off x="5708520" y="2009880"/>
            <a:ext cx="3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矩形 7"/>
          <p:cNvSpPr/>
          <p:nvPr/>
        </p:nvSpPr>
        <p:spPr>
          <a:xfrm>
            <a:off x="2619360" y="2508120"/>
            <a:ext cx="39528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矩形 8"/>
          <p:cNvSpPr/>
          <p:nvPr/>
        </p:nvSpPr>
        <p:spPr>
          <a:xfrm>
            <a:off x="5708520" y="2513160"/>
            <a:ext cx="39528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矩形 9"/>
          <p:cNvSpPr/>
          <p:nvPr/>
        </p:nvSpPr>
        <p:spPr>
          <a:xfrm>
            <a:off x="2619360" y="2962440"/>
            <a:ext cx="39528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矩形 10"/>
          <p:cNvSpPr/>
          <p:nvPr/>
        </p:nvSpPr>
        <p:spPr>
          <a:xfrm>
            <a:off x="5313240" y="2962440"/>
            <a:ext cx="39528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矩形 11"/>
          <p:cNvSpPr/>
          <p:nvPr/>
        </p:nvSpPr>
        <p:spPr>
          <a:xfrm>
            <a:off x="7012080" y="2962440"/>
            <a:ext cx="39528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矩形 12"/>
          <p:cNvSpPr/>
          <p:nvPr/>
        </p:nvSpPr>
        <p:spPr>
          <a:xfrm>
            <a:off x="2619360" y="3409920"/>
            <a:ext cx="48276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矩形 13"/>
          <p:cNvSpPr/>
          <p:nvPr/>
        </p:nvSpPr>
        <p:spPr>
          <a:xfrm>
            <a:off x="5313240" y="3443400"/>
            <a:ext cx="395280" cy="3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矩形 14"/>
          <p:cNvSpPr/>
          <p:nvPr/>
        </p:nvSpPr>
        <p:spPr>
          <a:xfrm>
            <a:off x="7012080" y="3487680"/>
            <a:ext cx="39528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矩形 15"/>
          <p:cNvSpPr/>
          <p:nvPr/>
        </p:nvSpPr>
        <p:spPr>
          <a:xfrm>
            <a:off x="2619360" y="3914640"/>
            <a:ext cx="395280" cy="35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矩形 16"/>
          <p:cNvSpPr/>
          <p:nvPr/>
        </p:nvSpPr>
        <p:spPr>
          <a:xfrm>
            <a:off x="5313240" y="3936960"/>
            <a:ext cx="473040" cy="33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矩形 17"/>
          <p:cNvSpPr/>
          <p:nvPr/>
        </p:nvSpPr>
        <p:spPr>
          <a:xfrm>
            <a:off x="7012080" y="3914640"/>
            <a:ext cx="395280" cy="35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矩形 18"/>
          <p:cNvSpPr/>
          <p:nvPr/>
        </p:nvSpPr>
        <p:spPr>
          <a:xfrm>
            <a:off x="2619360" y="4440240"/>
            <a:ext cx="395280" cy="3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矩形 19"/>
          <p:cNvSpPr/>
          <p:nvPr/>
        </p:nvSpPr>
        <p:spPr>
          <a:xfrm>
            <a:off x="5313240" y="4406760"/>
            <a:ext cx="39528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矩形 20"/>
          <p:cNvSpPr/>
          <p:nvPr/>
        </p:nvSpPr>
        <p:spPr>
          <a:xfrm>
            <a:off x="7012080" y="4440240"/>
            <a:ext cx="395280" cy="3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矩形 21"/>
          <p:cNvSpPr/>
          <p:nvPr/>
        </p:nvSpPr>
        <p:spPr>
          <a:xfrm>
            <a:off x="2619360" y="4943520"/>
            <a:ext cx="39528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矩形 23"/>
          <p:cNvSpPr/>
          <p:nvPr/>
        </p:nvSpPr>
        <p:spPr>
          <a:xfrm>
            <a:off x="5313240" y="4911840"/>
            <a:ext cx="395280" cy="40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矩形 24"/>
          <p:cNvSpPr/>
          <p:nvPr/>
        </p:nvSpPr>
        <p:spPr>
          <a:xfrm>
            <a:off x="7012080" y="4943520"/>
            <a:ext cx="39528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5T00:38:00Z</dcterms:created>
  <dc:creator/>
  <dc:description/>
  <dc:language>en-US</dc:language>
  <cp:lastModifiedBy>万润仪器贸易公司</cp:lastModifiedBy>
  <dcterms:modified xsi:type="dcterms:W3CDTF">2020-08-21T00:40:02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